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6.wmf" ContentType="image/x-wmf"/>
  <Override PartName="/ppt/media/image45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0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8.png" ContentType="image/png"/>
  <Override PartName="/ppt/media/image9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31.png" ContentType="image/png"/>
  <Override PartName="/ppt/media/image43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6E5-3218-4F9C-A4CF-D38DEA5C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42A-DD75-4ED2-99D4-283106D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81E-524F-48C2-9567-FBC96B88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1B4-29F5-4867-B594-4EA59531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093-CB8E-4180-8AD2-77C10317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9BF7-70A0-4ED2-A2C6-EE48920A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E0F3-B679-42A0-82DD-D8B7C95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DE0F-2FDF-43B5-A0D3-A727CE43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91E9-6A43-433D-A568-7D9DFA7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AAF-730E-475F-AA35-ACCC554F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4CCE-EDA1-491F-A957-11E1CB9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299-A5CB-4396-B21A-2B0B8DF2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BE60-BE0E-4D00-8327-7A97DBC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FC8E-8739-4C18-B8EA-9A5A45F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9AA4-A4B5-4AF6-8080-62FD6D7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27F-358C-4E16-9EAF-AB8AB281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2068-2C8F-47DF-A796-198E8466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EC1-44FC-4E11-B2C4-A4DEF9CD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9A8-D91F-4C23-AA4C-4A50C96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4D0-CFE5-43C0-AE30-A8EA004D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92A-60C7-44DC-8DAF-96EC0488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A86-D80E-469B-8C54-76DB3BC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FBE-1243-4022-A283-F6C82AC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E4B-243B-476D-BC07-9C7C3F8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3EA4-AF36-4745-89F2-B61F3CDE286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3A97-9DF0-4B0C-A20E-C0BC18E0A99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09680" y="228600"/>
            <a:ext cx="513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Pedijatrijska kli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Medicinskog fakulteta u Kragujev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D:\medicina\SLIKE\GRB-MED-FAK.jpg"/>
          <p:cNvPicPr/>
          <p:nvPr/>
        </p:nvPicPr>
        <p:blipFill>
          <a:blip r:embed="rId1"/>
          <a:stretch/>
        </p:blipFill>
        <p:spPr>
          <a:xfrm>
            <a:off x="4267080" y="1066680"/>
            <a:ext cx="903240" cy="990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90" name="Rectangle 5"/>
          <p:cNvSpPr/>
          <p:nvPr/>
        </p:nvSpPr>
        <p:spPr>
          <a:xfrm>
            <a:off x="1981080" y="22860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autor: Prof. dr Slobodan Obradovi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1219320" y="2971800"/>
            <a:ext cx="7619760" cy="1219320"/>
            <a:chOff x="1219320" y="2971800"/>
            <a:chExt cx="7619760" cy="1219320"/>
          </a:xfrm>
        </p:grpSpPr>
        <p:sp>
          <p:nvSpPr>
            <p:cNvPr id="92" name="AutoShape 4"/>
            <p:cNvSpPr/>
            <p:nvPr/>
          </p:nvSpPr>
          <p:spPr>
            <a:xfrm>
              <a:off x="1219320" y="2971800"/>
              <a:ext cx="7619760" cy="1219320"/>
            </a:xfrm>
            <a:prstGeom prst="flowChartAlternateProcess">
              <a:avLst/>
            </a:prstGeom>
            <a:solidFill>
              <a:srgbClr val="468c36">
                <a:alpha val="50000"/>
              </a:srgbClr>
            </a:solidFill>
            <a:ln w="114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2136960" y="3200400"/>
              <a:ext cx="57798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9900"/>
                  </a:solidFill>
                  <a:latin typeface="Cooper Bold YU"/>
                </a:rPr>
                <a:t>CEREBRALNA PARALIZ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Picture 7" descr="C:\My Documents\My Pictures\amblemi\dco-children.jpg"/>
          <p:cNvPicPr/>
          <p:nvPr/>
        </p:nvPicPr>
        <p:blipFill>
          <a:blip r:embed="rId2"/>
          <a:stretch/>
        </p:blipFill>
        <p:spPr>
          <a:xfrm>
            <a:off x="3733920" y="4572000"/>
            <a:ext cx="2133360" cy="1998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312720" y="457200"/>
            <a:ext cx="27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PATOANATOM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LEZIJE 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66680" y="190512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INTRAKRANIJALNA HEMORAGIJ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(SD, SAH, PVH – IVH – I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HIPOKSI^NO – ISHEMI^NA ENCEFALOPATI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(EDEM, PVL, SCL, kasnija ATROFIJA MOZ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INFEKCIJE MOZGA – INTRAUTERINE I POSTNATAL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(TORCH, MENING., ENCEF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RH INKOPATIBILIJ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(KERNIKTE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KONGENITALNE ANOMAL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(Proliferacije, migracije, diferencijacij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zatvaranja neuralne tu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355200" y="533520"/>
            <a:ext cx="26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ODNOS RAZV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I LEZIJE CNS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914120" y="1600200"/>
            <a:ext cx="59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Lezija interferira sa normalnim razvojem moz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24"/>
          <p:cNvGrpSpPr/>
          <p:nvPr/>
        </p:nvGrpSpPr>
        <p:grpSpPr>
          <a:xfrm>
            <a:off x="5867280" y="4114800"/>
            <a:ext cx="2362320" cy="2351160"/>
            <a:chOff x="5867280" y="4114800"/>
            <a:chExt cx="2362320" cy="2351160"/>
          </a:xfrm>
        </p:grpSpPr>
        <p:pic>
          <p:nvPicPr>
            <p:cNvPr id="167" name="Picture 10" descr="E:\medicina\internet-slike\RAZVOJ gestacija\40-GN-anatomski-spolja.jpg"/>
            <p:cNvPicPr/>
            <p:nvPr/>
          </p:nvPicPr>
          <p:blipFill>
            <a:blip r:embed="rId1"/>
            <a:stretch/>
          </p:blipFill>
          <p:spPr>
            <a:xfrm>
              <a:off x="5867280" y="4114800"/>
              <a:ext cx="2362320" cy="1981080"/>
            </a:xfrm>
            <a:prstGeom prst="rect">
              <a:avLst/>
            </a:prstGeom>
            <a:ln w="12600">
              <a:solidFill>
                <a:srgbClr val="ffff00"/>
              </a:solidFill>
              <a:miter/>
            </a:ln>
          </p:spPr>
        </p:pic>
        <p:sp>
          <p:nvSpPr>
            <p:cNvPr id="168" name="Rectangle 11"/>
            <p:cNvSpPr/>
            <p:nvPr/>
          </p:nvSpPr>
          <p:spPr>
            <a:xfrm>
              <a:off x="6901200" y="6097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  <a:ea typeface="Times New Roman"/>
                </a:rPr>
                <a:t>40 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1600200" y="4876920"/>
            <a:ext cx="1523880" cy="1665000"/>
            <a:chOff x="1600200" y="4876920"/>
            <a:chExt cx="1523880" cy="1665000"/>
          </a:xfrm>
        </p:grpSpPr>
        <p:graphicFrame>
          <p:nvGraphicFramePr>
            <p:cNvPr id="170" name="Object 12"/>
            <p:cNvGraphicFramePr/>
            <p:nvPr/>
          </p:nvGraphicFramePr>
          <p:xfrm>
            <a:off x="1600200" y="4876920"/>
            <a:ext cx="1523880" cy="1218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876920"/>
                      <a:ext cx="1523880" cy="1218960"/>
                    </a:xfrm>
                    <a:prstGeom prst="rect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Rectangle 13"/>
            <p:cNvSpPr/>
            <p:nvPr/>
          </p:nvSpPr>
          <p:spPr>
            <a:xfrm>
              <a:off x="1948320" y="617364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  <a:ea typeface="Times New Roman"/>
                </a:rPr>
                <a:t>27 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23"/>
          <p:cNvGrpSpPr/>
          <p:nvPr/>
        </p:nvGrpSpPr>
        <p:grpSpPr>
          <a:xfrm>
            <a:off x="3429000" y="4572000"/>
            <a:ext cx="2133720" cy="1893960"/>
            <a:chOff x="3429000" y="4572000"/>
            <a:chExt cx="2133720" cy="1893960"/>
          </a:xfrm>
        </p:grpSpPr>
        <p:sp>
          <p:nvSpPr>
            <p:cNvPr id="174" name="Rectangle 14"/>
            <p:cNvSpPr/>
            <p:nvPr/>
          </p:nvSpPr>
          <p:spPr>
            <a:xfrm>
              <a:off x="4158000" y="6097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  <a:ea typeface="Times New Roman"/>
                </a:rPr>
                <a:t>32 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Object 15"/>
            <p:cNvGraphicFramePr/>
            <p:nvPr/>
          </p:nvGraphicFramePr>
          <p:xfrm>
            <a:off x="3429000" y="4572000"/>
            <a:ext cx="2133720" cy="152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6" name="Object 1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4572000"/>
                      <a:ext cx="2133720" cy="1523880"/>
                    </a:xfrm>
                    <a:prstGeom prst="rect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77" name="Group 21"/>
          <p:cNvGrpSpPr/>
          <p:nvPr/>
        </p:nvGrpSpPr>
        <p:grpSpPr>
          <a:xfrm>
            <a:off x="1231920" y="2133720"/>
            <a:ext cx="7302600" cy="2133360"/>
            <a:chOff x="1231920" y="2133720"/>
            <a:chExt cx="7302600" cy="2133360"/>
          </a:xfrm>
        </p:grpSpPr>
        <p:sp>
          <p:nvSpPr>
            <p:cNvPr id="178" name="Rectangle 4"/>
            <p:cNvSpPr/>
            <p:nvPr/>
          </p:nvSpPr>
          <p:spPr>
            <a:xfrm>
              <a:off x="3692520" y="2819520"/>
              <a:ext cx="990720" cy="304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3898440" y="28195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LEZ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231920" y="3429000"/>
              <a:ext cx="1143000" cy="30492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465920" y="342900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RAZVO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4708440" y="2133720"/>
              <a:ext cx="1600200" cy="30456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4866840" y="2133720"/>
              <a:ext cx="129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KOMPENZ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1523880" y="2743200"/>
              <a:ext cx="6858000" cy="152388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4272" h="912">
                  <a:moveTo>
                    <a:pt x="0" y="912"/>
                  </a:moveTo>
                  <a:cubicBezTo>
                    <a:pt x="560" y="720"/>
                    <a:pt x="1120" y="528"/>
                    <a:pt x="1536" y="480"/>
                  </a:cubicBezTo>
                  <a:cubicBezTo>
                    <a:pt x="1952" y="432"/>
                    <a:pt x="2120" y="680"/>
                    <a:pt x="2496" y="624"/>
                  </a:cubicBezTo>
                  <a:cubicBezTo>
                    <a:pt x="2872" y="568"/>
                    <a:pt x="3496" y="248"/>
                    <a:pt x="3792" y="144"/>
                  </a:cubicBezTo>
                  <a:cubicBezTo>
                    <a:pt x="4088" y="40"/>
                    <a:pt x="4192" y="24"/>
                    <a:pt x="4272" y="0"/>
                  </a:cubicBezTo>
                </a:path>
              </a:pathLst>
            </a:custGeom>
            <a:noFill/>
            <a:ln w="130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V="1">
              <a:off x="1523880" y="2286000"/>
              <a:ext cx="7010640" cy="1905120"/>
            </a:xfrm>
            <a:prstGeom prst="line">
              <a:avLst/>
            </a:prstGeom>
            <a:ln w="177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4191120" y="3124080"/>
              <a:ext cx="0" cy="3812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5486400" y="2514600"/>
              <a:ext cx="0" cy="11430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Picture 20" descr="C:\My Documents\My Pictures\amblemi\101.jpg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2004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DEFIN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1066680" y="1676520"/>
            <a:ext cx="7620120" cy="1523880"/>
            <a:chOff x="1066680" y="1676520"/>
            <a:chExt cx="7620120" cy="1523880"/>
          </a:xfrm>
        </p:grpSpPr>
        <p:sp>
          <p:nvSpPr>
            <p:cNvPr id="191" name="Rectangle 4"/>
            <p:cNvSpPr/>
            <p:nvPr/>
          </p:nvSpPr>
          <p:spPr>
            <a:xfrm>
              <a:off x="1766520" y="1752480"/>
              <a:ext cx="617616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oper Bold YU"/>
                </a:rPr>
                <a:t>Ometenost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ili </a:t>
              </a:r>
              <a:r>
                <a:rPr b="0" lang="en-US" sz="1800" spc="-1" strike="noStrike">
                  <a:solidFill>
                    <a:srgbClr val="ff0000"/>
                  </a:solidFill>
                  <a:latin typeface="Cooper Bold YU"/>
                </a:rPr>
                <a:t>hendikep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je svako nepovoljno stanje ko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stalno ili dugotrajno ograni~ava ili spre~ava ispunje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one uloge koja je normalna za odre|enu osobu (zavis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od uzrasta, pola, socijalnih i kulturnih fakto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>
              <a:off x="1066680" y="1676520"/>
              <a:ext cx="7620120" cy="1523880"/>
            </a:xfrm>
            <a:prstGeom prst="flowChartAlternateProcess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6"/>
          <p:cNvSpPr/>
          <p:nvPr/>
        </p:nvSpPr>
        <p:spPr>
          <a:xfrm>
            <a:off x="1923480" y="3657600"/>
            <a:ext cx="5670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Ometeno dete se ne mo`e la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igra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u~i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sticati isku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ovladavati ve{tin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ostvarivati socijalne kontakte sa drug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kao zdravi vr{nj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7" descr="C:\My Documents\My Pictures\DCO\kolica.jpg"/>
          <p:cNvPicPr/>
          <p:nvPr/>
        </p:nvPicPr>
        <p:blipFill>
          <a:blip r:embed="rId1"/>
          <a:stretch/>
        </p:blipFill>
        <p:spPr>
          <a:xfrm>
            <a:off x="1143000" y="4038480"/>
            <a:ext cx="114624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5" name="Picture 8" descr="C:\My Documents\My Pictures\amblemi\DECA u IGRI.jpg"/>
          <p:cNvPicPr/>
          <p:nvPr/>
        </p:nvPicPr>
        <p:blipFill>
          <a:blip r:embed="rId2"/>
          <a:stretch/>
        </p:blipFill>
        <p:spPr>
          <a:xfrm>
            <a:off x="7315200" y="4114800"/>
            <a:ext cx="1384200" cy="1494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6" name="Picture 9" descr="C:\My Documents\My Pictures\amblemi\101.jpg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26"/>
          <p:cNvSpPr/>
          <p:nvPr/>
        </p:nvSpPr>
        <p:spPr>
          <a:xfrm>
            <a:off x="2419560" y="2362320"/>
            <a:ext cx="4842720" cy="283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DIJAGNOZ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CEREBRAL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PARALIZ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27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81080" y="4572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KLINI^KI ZNACI KO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UPU]UJU NA 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914400" y="1066680"/>
            <a:ext cx="82296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Promenljivost mi{i}nog ton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*periodi iritabilnosti sa povi{enim tonusom lako prelaze u hipoton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Usporen motorni razvoj 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*~esto se u preterminske novoro|en~adi ustanovi poreme}aj razvoja, ali se on uspe{no prevazi|e plasticitetom nezrelog mozga, tako da se oni ne mogu svrstati u decu sa znacima prave cerebralne par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Problemi sa posturalnim tonusom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*nestabilnost zbog o{te}enja motorne kore, bazalnih ganglija ili cerebel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Perzistiranje primitivnih reflek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981080" y="4572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KLINI^KI ZNACI KO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UPU]UJU NA 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14400" y="1295280"/>
            <a:ext cx="7620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Te{ko}e u hranjenju, kupanju, obla~e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*o{te}en kortikobulbarni trakt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smetnje gutanja i hipersaliva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C:\My Documents\My Pictures\ANATOMIJA\UKUS i GUTANJE - kranijalni nervi.bmp"/>
          <p:cNvPicPr/>
          <p:nvPr/>
        </p:nvPicPr>
        <p:blipFill>
          <a:blip r:embed="rId1"/>
          <a:stretch/>
        </p:blipFill>
        <p:spPr>
          <a:xfrm>
            <a:off x="1676520" y="3505320"/>
            <a:ext cx="3352680" cy="3052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Picture 5" descr="C:\My Documents\My Pictures\KORTIKOBULBARNI TRAKT.bmp"/>
          <p:cNvPicPr/>
          <p:nvPr/>
        </p:nvPicPr>
        <p:blipFill>
          <a:blip r:embed="rId2"/>
          <a:stretch/>
        </p:blipFill>
        <p:spPr>
          <a:xfrm>
            <a:off x="5867280" y="3505320"/>
            <a:ext cx="2438640" cy="304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Picture 6" descr="C:\My Documents\My Pictures\amblemi\101.jpg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26"/>
          <p:cNvSpPr/>
          <p:nvPr/>
        </p:nvSpPr>
        <p:spPr>
          <a:xfrm>
            <a:off x="1752480" y="1676520"/>
            <a:ext cx="670572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ANAMN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FAKTORI RIZ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Cooper Bold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prenatalni, perinatalni i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postnata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PSIHOMOTORNI RAZV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Cooper Bold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slu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Cooper Bold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Cooper Bold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pona{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Cooper Bold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konvulz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PORODI^NA ANAMN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Cooper Bold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nasledni neurolo{ki poreme}a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Cooper Bold YU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27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028" descr="E:\medicina\internet-slike\CRTEZI DECE\dete-1.JPG"/>
          <p:cNvPicPr/>
          <p:nvPr/>
        </p:nvPicPr>
        <p:blipFill>
          <a:blip r:embed="rId1"/>
          <a:stretch/>
        </p:blipFill>
        <p:spPr>
          <a:xfrm>
            <a:off x="4648320" y="4095720"/>
            <a:ext cx="1371600" cy="1027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0" name="Picture 1029" descr="E:\medicina\internet-slike\CRTEZI DECE\dete-2.JPG"/>
          <p:cNvPicPr/>
          <p:nvPr/>
        </p:nvPicPr>
        <p:blipFill>
          <a:blip r:embed="rId2"/>
          <a:stretch/>
        </p:blipFill>
        <p:spPr>
          <a:xfrm>
            <a:off x="6553080" y="3505320"/>
            <a:ext cx="11797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1" name="Picture 1030" descr="C:\My Documents\My Pictures\amblemi\101.jpg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990720" y="1569960"/>
            <a:ext cx="815328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NEUROLO[KI 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NOVORO\EN^ETA I ODOJ^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POLO@AJ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koji zauz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POKRETLJIVOST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(spontani motilit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^ULA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(reakcija vida i sluh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KRANIJALNI NERVI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(simetrija facijalne inerva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TONUS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(otpor na pokrete, opseg pokr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REFLEKSI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(primitivni, tetivni) i rea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POSTURALNE REAKCIJE (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ispitivanje dobno specifi~nih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funkcija u svim stavovima&gt; sede}i, stoje}i,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VOKALIZACIJA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gov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Cooper Bold YU"/>
              </a:rPr>
              <a:t>SOCIJALNI KONTAKT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(smeh, grimase, stid, ljutnja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Cooper Bold YU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1"/>
          <p:cNvGrpSpPr/>
          <p:nvPr/>
        </p:nvGrpSpPr>
        <p:grpSpPr>
          <a:xfrm>
            <a:off x="1066680" y="1295280"/>
            <a:ext cx="8077320" cy="5390280"/>
            <a:chOff x="1066680" y="1295280"/>
            <a:chExt cx="8077320" cy="5390280"/>
          </a:xfrm>
        </p:grpSpPr>
        <p:grpSp>
          <p:nvGrpSpPr>
            <p:cNvPr id="218" name="Group 3"/>
            <p:cNvGrpSpPr/>
            <p:nvPr/>
          </p:nvGrpSpPr>
          <p:grpSpPr>
            <a:xfrm>
              <a:off x="1066680" y="1295280"/>
              <a:ext cx="8077320" cy="5390280"/>
              <a:chOff x="1066680" y="1295280"/>
              <a:chExt cx="8077320" cy="539028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1066680" y="1295280"/>
                <a:ext cx="8077320" cy="53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oper Bold YU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oper Bold YU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oper Bold YU"/>
                  </a:rPr>
                  <a:t>U NEONATALNOM PERIODU</a:t>
                </a:r>
                <a:r>
                  <a:rPr b="0" lang="en-US" sz="2000" spc="-1" strike="noStrike">
                    <a:solidFill>
                      <a:srgbClr val="00ccff"/>
                    </a:solidFill>
                    <a:latin typeface="Cooper Bold YU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ff"/>
                    </a:solidFill>
                    <a:latin typeface="Cooper Bold YU"/>
                  </a:rPr>
                  <a:t>	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abnormalnosti se opisuju </a:t>
                </a:r>
                <a:r>
                  <a:rPr b="0" lang="en-US" sz="1800" spc="-1" strike="noStrike">
                    <a:solidFill>
                      <a:srgbClr val="00ccff"/>
                    </a:solidFill>
                    <a:latin typeface="Cooper Bold YU"/>
                  </a:rPr>
                  <a:t>(Prechtl 1981.)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Cooper Bold YU"/>
                  </a:rPr>
                  <a:t>: u: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pona{anju &gt;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HIPER-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ili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HIPOEKSCITABILNO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posturalnom tonusu &gt;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HIPER-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ili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HIPOTONIJ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koli~ini spontanih pokreta &gt;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HIPER-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ili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HIPOKINE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simetriji pokreta &gt;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CENTRALNA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ili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PERIFERNA ASI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oper Bold YU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oper Bold YU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oper Bold YU"/>
                  </a:rPr>
                  <a:t>U DOJENA^KOM PERIODU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oper Bold YU"/>
                  </a:rPr>
                  <a:t>abnormalnosti se dijagnostikuju </a:t>
                </a:r>
                <a:r>
                  <a:rPr b="0" lang="en-US" sz="1800" spc="-1" strike="noStrike">
                    <a:solidFill>
                      <a:srgbClr val="00ccff"/>
                    </a:solidFill>
                    <a:latin typeface="Cooper Bold YU"/>
                  </a:rPr>
                  <a:t>(Miklou{i} 1989)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Cooper Bold YU"/>
                  </a:rPr>
                  <a:t>kao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SINDROM DISTONIJ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oper Bold YU"/>
                  </a:rPr>
                  <a:t>SINDROM SPASTI^NOSTI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Cooper Bold YU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"/>
              <p:cNvSpPr/>
              <p:nvPr/>
            </p:nvSpPr>
            <p:spPr>
              <a:xfrm>
                <a:off x="1066680" y="3124080"/>
                <a:ext cx="2667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6"/>
              <p:cNvSpPr/>
              <p:nvPr/>
            </p:nvSpPr>
            <p:spPr>
              <a:xfrm>
                <a:off x="1066680" y="5333760"/>
                <a:ext cx="2590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"/>
            <p:cNvGrpSpPr/>
            <p:nvPr/>
          </p:nvGrpSpPr>
          <p:grpSpPr>
            <a:xfrm>
              <a:off x="2819520" y="1600200"/>
              <a:ext cx="4343400" cy="3733920"/>
              <a:chOff x="2819520" y="1600200"/>
              <a:chExt cx="4343400" cy="3733920"/>
            </a:xfrm>
          </p:grpSpPr>
          <p:sp>
            <p:nvSpPr>
              <p:cNvPr id="223" name="Rectangle 8"/>
              <p:cNvSpPr/>
              <p:nvPr/>
            </p:nvSpPr>
            <p:spPr>
              <a:xfrm>
                <a:off x="2819520" y="1600200"/>
                <a:ext cx="43434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9"/>
              <p:cNvSpPr/>
              <p:nvPr/>
            </p:nvSpPr>
            <p:spPr>
              <a:xfrm>
                <a:off x="2819520" y="4800600"/>
                <a:ext cx="4114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486400" y="5257800"/>
            <a:ext cx="27432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NEONATA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HIPERTON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28" name="16.AVI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47920" y="1981080"/>
            <a:ext cx="3352680" cy="27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9" name="17.AVI" descr=""/>
          <p:cNvPicPr/>
          <p:nvPr/>
        </p:nvPicPr>
        <p:blipFill>
          <a:blip r:embed="rId3"/>
          <a:stretch/>
        </p:blipFill>
        <p:spPr>
          <a:xfrm>
            <a:off x="5105520" y="1981080"/>
            <a:ext cx="3352680" cy="27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30" name="Rectangle 7"/>
          <p:cNvSpPr/>
          <p:nvPr/>
        </p:nvSpPr>
        <p:spPr>
          <a:xfrm>
            <a:off x="2171160" y="5181480"/>
            <a:ext cx="1866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NEONATA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HIPOTON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1164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214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264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75840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6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1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6"/>
          <p:cNvSpPr/>
          <p:nvPr/>
        </p:nvSpPr>
        <p:spPr>
          <a:xfrm>
            <a:off x="335268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ISTORIJ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027"/>
          <p:cNvGrpSpPr/>
          <p:nvPr/>
        </p:nvGrpSpPr>
        <p:grpSpPr>
          <a:xfrm>
            <a:off x="1066680" y="1676520"/>
            <a:ext cx="7620120" cy="1523880"/>
            <a:chOff x="1066680" y="1676520"/>
            <a:chExt cx="7620120" cy="1523880"/>
          </a:xfrm>
        </p:grpSpPr>
        <p:sp>
          <p:nvSpPr>
            <p:cNvPr id="97" name="Rectangle 1028"/>
            <p:cNvSpPr/>
            <p:nvPr/>
          </p:nvSpPr>
          <p:spPr>
            <a:xfrm>
              <a:off x="1826640" y="1752480"/>
              <a:ext cx="616536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*Cerebralnu paralizu je prvi put u medicinskoj literatur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opisao </a:t>
              </a:r>
              <a:r>
                <a:rPr b="0" lang="en-US" sz="1800" spc="-1" strike="noStrike">
                  <a:solidFill>
                    <a:srgbClr val="00ccff"/>
                  </a:solidFill>
                  <a:latin typeface="Cooper Bold YU"/>
                </a:rPr>
                <a:t>W.J. Little 1862. </a:t>
              </a:r>
              <a:r>
                <a:rPr b="0" lang="en-US" sz="1800" spc="-1" strike="noStrike">
                  <a:solidFill>
                    <a:srgbClr val="ff0000"/>
                  </a:solidFill>
                  <a:latin typeface="Cooper Bold YU"/>
                </a:rPr>
                <a:t>- </a:t>
              </a:r>
              <a:r>
                <a:rPr b="0" lang="en-US" sz="1800" spc="-1" strike="noStrike">
                  <a:solidFill>
                    <a:srgbClr val="ff0000"/>
                  </a:solidFill>
                  <a:latin typeface="Cooper Bold YU"/>
                </a:rPr>
                <a:t>LITTLEOVA BOL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*Termin </a:t>
              </a:r>
              <a:r>
                <a:rPr b="0" lang="en-US" sz="1800" spc="-1" strike="noStrike">
                  <a:solidFill>
                    <a:srgbClr val="ff0000"/>
                  </a:solidFill>
                  <a:latin typeface="Cooper Bold YU"/>
                </a:rPr>
                <a:t>CEREBRALNA PARALIZA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prvi put je u literatu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upotrebio</a:t>
              </a:r>
              <a:r>
                <a:rPr b="0" lang="en-US" sz="1800" spc="-1" strike="noStrike">
                  <a:solidFill>
                    <a:srgbClr val="00ccff"/>
                  </a:solidFill>
                  <a:latin typeface="Cooper Bold YU"/>
                </a:rPr>
                <a:t> Pheps 1941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1029"/>
            <p:cNvSpPr/>
            <p:nvPr/>
          </p:nvSpPr>
          <p:spPr>
            <a:xfrm>
              <a:off x="1066680" y="1676520"/>
              <a:ext cx="7620120" cy="1523880"/>
            </a:xfrm>
            <a:prstGeom prst="flowChartAlternateProcess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Picture 1030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1" descr="C:\My Documents\My Pictures\amblemi\stare knjige 2.jpg"/>
          <p:cNvPicPr/>
          <p:nvPr/>
        </p:nvPicPr>
        <p:blipFill>
          <a:blip r:embed="rId2"/>
          <a:stretch/>
        </p:blipFill>
        <p:spPr>
          <a:xfrm>
            <a:off x="3505320" y="3733920"/>
            <a:ext cx="2539800" cy="2539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676520" y="502920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SPASTI^NI SIND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u 12. mese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34" name="13.AVI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200400" cy="2617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4164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014560" y="4191120"/>
            <a:ext cx="62082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oper Bold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CENTRALNI POREME]AJ KOORDIN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oper Bold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CEREBRALNI POREME]AJ POK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oper Bold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DISHARMONI^AN MOTORNI RAZV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oper Bold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GENERALIZOVANA HIPERTONIJA (HIPOTONI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90720" y="1752480"/>
            <a:ext cx="8153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Dijagnoza CP se postavlja u prvim mesecima `ivota samo ukoliko postoje izrazite malformacije CNS-a, ili kada se klini~ka slika lezije u potpunosti razvi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Razvojna odstupanja tokom prve godine `ivota se dijagnostikuju ka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6045120" y="-455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3331080" y="45720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EGIST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IZI^NOG DE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066680" y="1676520"/>
            <a:ext cx="78487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Rizi~nu decu treba odmah uputiti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RAZVOJNO SAVETOVALI[TE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upisati ih u :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762120" y="5715000"/>
            <a:ext cx="8229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REGISTAR RIZI^NOG DETETA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kako bi se pobolj{ao nadzor i longitudinalno pr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}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1"/>
          <p:cNvGrpSpPr/>
          <p:nvPr/>
        </p:nvGrpSpPr>
        <p:grpSpPr>
          <a:xfrm>
            <a:off x="3276720" y="2819520"/>
            <a:ext cx="3352680" cy="2681280"/>
            <a:chOff x="3276720" y="2819520"/>
            <a:chExt cx="3352680" cy="2681280"/>
          </a:xfrm>
        </p:grpSpPr>
        <p:pic>
          <p:nvPicPr>
            <p:cNvPr id="245" name="Picture 8" descr="C:\My Documents\My Pictures\amblemi\registar.bmp"/>
            <p:cNvPicPr/>
            <p:nvPr/>
          </p:nvPicPr>
          <p:blipFill>
            <a:blip r:embed="rId2"/>
            <a:stretch/>
          </p:blipFill>
          <p:spPr>
            <a:xfrm>
              <a:off x="3276720" y="2819520"/>
              <a:ext cx="335268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9"/>
            <p:cNvSpPr/>
            <p:nvPr/>
          </p:nvSpPr>
          <p:spPr>
            <a:xfrm>
              <a:off x="3682080" y="3048120"/>
              <a:ext cx="2690640" cy="22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cc"/>
                  </a:solidFill>
                  <a:latin typeface="Cooper Bold YU"/>
                </a:rPr>
                <a:t>10%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cc"/>
                  </a:solidFill>
                  <a:latin typeface="Cooper Bold YU"/>
                </a:rPr>
                <a:t>rizi~ne d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ooper Bold YU"/>
                </a:rPr>
                <a:t>3%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ooper Bold YU"/>
                </a:rPr>
                <a:t>ometene u razvoj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 rot="5400000">
              <a:off x="4851000" y="3322440"/>
              <a:ext cx="304920" cy="175284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168280" y="2362320"/>
            <a:ext cx="5270760" cy="283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KLASIFIKACI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CEREBRAL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PARALIZ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981080" y="609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KLASIFIKACIJA 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90720" y="1981080"/>
          <a:ext cx="7848360" cy="4119840"/>
        </p:xfrm>
        <a:graphic>
          <a:graphicData uri="http://schemas.openxmlformats.org/drawingml/2006/table">
            <a:tbl>
              <a:tblPr/>
              <a:tblGrid>
                <a:gridCol w="2133360"/>
                <a:gridCol w="3886200"/>
                <a:gridCol w="182880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VRSTA D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OPIS POREME]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MESTO LEZ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SPASTI^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abnormalni porast mi{i}nog tonus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stereotipni i ograni~eni pokre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pasivnost dovodi do kontraktura i deformite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perzistiraju primitivni refle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slab razvoj ”posturalnih refleksnih mehanizama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KORTE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00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HOREOATETOID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tonus fluktuira hipo&gt;normo&gt;hip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atetozni (crvoliki) pokreti distalnih del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horeatski - masivni pokreti ve}ih amplituda (p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horeatetoza – kombinacija diskinez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distonija- produ`ene (uvijaju}e) kontrakcij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BAZALNE GANGL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00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ATAKSI^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cerebelarna ataks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te{ko}e u odr`avanju ravnote`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nekoordinisani pokreti primarno proksimalnih mi{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CEREBEL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00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HIPOTONI^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abnormalni nizak mi{i}ni tonus (floppy infant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mo`e biti prolazna dijagnoza dok se ne ispolj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spasti~na ili horeatetozna forma 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CEREBEL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00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ME[OV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kombinacija poreme}aja se ~esto vi|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spasti~ni i ekstrapiramidni elementi o{te}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VI[E SIS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00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52" name="Rectangle 34"/>
          <p:cNvSpPr/>
          <p:nvPr/>
        </p:nvSpPr>
        <p:spPr>
          <a:xfrm>
            <a:off x="990720" y="1981080"/>
            <a:ext cx="7848360" cy="4114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5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981080" y="609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KLASIFIKACIJA 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43000" y="2209680"/>
          <a:ext cx="7620120" cy="25146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2590920"/>
              </a:tblGrid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SPASTI^NI OBL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EKSTRAPIRAMIDNI OBL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Cooper Bold YU"/>
                        </a:rPr>
                        <a:t>ME[OVITI OBL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KVADRIPLEG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ATAKS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e3e3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SPASTI^NA + ATAKS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     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+ HOREO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              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+ DIST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00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DIPLEGIJA (PA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ATETOZA (HOREOATETO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e3e3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HEMIPLEG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cc6600"/>
                        </a:gs>
                        <a:gs pos="100000">
                          <a:srgbClr val="5e2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oper Bold YU"/>
                        </a:rPr>
                        <a:t>DIST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e3e3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6" name="Rectangle 24"/>
          <p:cNvSpPr/>
          <p:nvPr/>
        </p:nvSpPr>
        <p:spPr>
          <a:xfrm>
            <a:off x="1143000" y="2209680"/>
            <a:ext cx="7620120" cy="2590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7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8"/>
          <p:cNvSpPr/>
          <p:nvPr/>
        </p:nvSpPr>
        <p:spPr>
          <a:xfrm>
            <a:off x="1523880" y="51814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Cooper Bold YU"/>
              </a:rPr>
              <a:t>All contents copyright (C) 1994, Kathleen C. Borowitz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Cooper Bold YU"/>
              </a:rPr>
              <a:t>Children's Medical Center, University of Virgin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Cooper Bold YU"/>
              </a:rPr>
              <a:t>	</a:t>
            </a:r>
            <a:r>
              <a:rPr b="0" lang="en-US" sz="1600" spc="-1" strike="noStrike">
                <a:solidFill>
                  <a:srgbClr val="00ccff"/>
                </a:solidFill>
                <a:latin typeface="Cooper Bold YU"/>
              </a:rPr>
              <a:t>All rights reserved.  Last revised: January 22, 2002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1752480" y="510552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SPASTI^NA KVADRIPA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u 4. god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62" name="110.avi" descr=""/>
          <p:cNvPicPr/>
          <p:nvPr/>
        </p:nvPicPr>
        <p:blipFill>
          <a:blip r:embed="rId2"/>
          <a:stretch/>
        </p:blipFill>
        <p:spPr>
          <a:xfrm>
            <a:off x="2741760" y="2057400"/>
            <a:ext cx="3657600" cy="27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1800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3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676520" y="510552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SPASTI^NA PARAPA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u 8. god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66" name="104.avi" descr=""/>
          <p:cNvPicPr/>
          <p:nvPr/>
        </p:nvPicPr>
        <p:blipFill>
          <a:blip r:embed="rId2"/>
          <a:stretch/>
        </p:blipFill>
        <p:spPr>
          <a:xfrm>
            <a:off x="2741760" y="2057400"/>
            <a:ext cx="3657600" cy="27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3172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600200" y="502920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SPASTI^NA HEMIPAREZA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u 2.5 go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70" name="103.avi" descr=""/>
          <p:cNvPicPr/>
          <p:nvPr/>
        </p:nvPicPr>
        <p:blipFill>
          <a:blip r:embed="rId2"/>
          <a:stretch/>
        </p:blipFill>
        <p:spPr>
          <a:xfrm>
            <a:off x="2741760" y="2057400"/>
            <a:ext cx="3657600" cy="27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5004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3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676520" y="502920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MIKSNA FORMA D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u 4.5 go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350520" y="457200"/>
            <a:ext cx="27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RA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D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74" name="119.avi" descr=""/>
          <p:cNvPicPr/>
          <p:nvPr/>
        </p:nvPicPr>
        <p:blipFill>
          <a:blip r:embed="rId2"/>
          <a:stretch/>
        </p:blipFill>
        <p:spPr>
          <a:xfrm>
            <a:off x="2741760" y="2057400"/>
            <a:ext cx="3657600" cy="2743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5160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004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DEFIN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267560" y="3581280"/>
            <a:ext cx="74073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lezija j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oper Bold YU"/>
              </a:rPr>
              <a:t>lokalizovana u moz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lezija j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oper Bold YU"/>
              </a:rPr>
              <a:t>permanentna i neprogresivn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, mada se klini~ka slik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bolesti mo`e menjati tokom `iv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lezija se razvija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oper Bold YU"/>
              </a:rPr>
              <a:t>do kraja neonatalnog period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 (pre, tokom 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posle poro|aja) i interferira sa normalnim razvojem moz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klini~kom slikom dominiraju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oper Bold YU"/>
              </a:rPr>
              <a:t>poreme}aji pokreta i polo`aj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oper Bold YU"/>
              </a:rPr>
              <a:t>tel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, mada se ~esto nadovezuju i drugi neurolo{k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simptomi i znaci </a:t>
            </a:r>
            <a:r>
              <a:rPr b="0" lang="en-US" sz="1800" spc="-1" strike="noStrike">
                <a:solidFill>
                  <a:srgbClr val="00ccff"/>
                </a:solidFill>
                <a:latin typeface="Cooper Bold YU"/>
              </a:rPr>
              <a:t>(I. Gamstorp,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066680" y="1676520"/>
            <a:ext cx="7620120" cy="1523880"/>
            <a:chOff x="1066680" y="1676520"/>
            <a:chExt cx="7620120" cy="1523880"/>
          </a:xfrm>
        </p:grpSpPr>
        <p:sp>
          <p:nvSpPr>
            <p:cNvPr id="104" name="Rectangle 5"/>
            <p:cNvSpPr/>
            <p:nvPr/>
          </p:nvSpPr>
          <p:spPr>
            <a:xfrm>
              <a:off x="1674720" y="1752480"/>
              <a:ext cx="634680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oper Bold YU"/>
                </a:rPr>
                <a:t>Cerebralna paraliza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je hroni~ni, neprogresivni poreme}aj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cerebralnog porekla koji se karakteri{e lo{om kontrol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pokreta ili stava tela, nastao u najranijem periodu `iv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Cooper Bold YU"/>
                </a:rPr>
                <a:t>(G.M. Fenichel 1988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066680" y="1676520"/>
              <a:ext cx="7620120" cy="1523880"/>
            </a:xfrm>
            <a:prstGeom prst="flowChartAlternateProcess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Picture 7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81080" y="4572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PRIDRU@ENI ZNACI CENTRALNIH O[TE]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C:\My Documents\My Pictures\ANATOMIJA\girusi i krvni sudovi mozga - 3d - ok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4038480"/>
            <a:ext cx="2377800" cy="2463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277" name="Group 7"/>
          <p:cNvGrpSpPr/>
          <p:nvPr/>
        </p:nvGrpSpPr>
        <p:grpSpPr>
          <a:xfrm>
            <a:off x="1981080" y="1295280"/>
            <a:ext cx="6433920" cy="2471040"/>
            <a:chOff x="1981080" y="1295280"/>
            <a:chExt cx="6433920" cy="2471040"/>
          </a:xfrm>
        </p:grpSpPr>
        <p:sp>
          <p:nvSpPr>
            <p:cNvPr id="278" name="Rectangle 3"/>
            <p:cNvSpPr/>
            <p:nvPr/>
          </p:nvSpPr>
          <p:spPr>
            <a:xfrm>
              <a:off x="1981080" y="1295280"/>
              <a:ext cx="617220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Mentalna retardacija 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(50-7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Poreme}aji govora     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	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(25%)</a:t>
              </a: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Poreme}aji sluha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	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(2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Poreme}aji vida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	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(40-5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oper Bold YU"/>
                </a:rPr>
                <a:t>Konvulzivne krize     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	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(25-35%)</a:t>
              </a:r>
              <a:r>
                <a:rPr b="0" lang="en-US" sz="2000" spc="-1" strike="noStrike">
                  <a:solidFill>
                    <a:srgbClr val="66ff33"/>
                  </a:solidFill>
                  <a:latin typeface="Cooper Bold YU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5"/>
            <p:cNvSpPr/>
            <p:nvPr/>
          </p:nvSpPr>
          <p:spPr>
            <a:xfrm>
              <a:off x="4381560" y="3429000"/>
              <a:ext cx="403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ff"/>
                  </a:solidFill>
                  <a:latin typeface="Cooper Bold YU"/>
                </a:rPr>
                <a:t>(United Cerebral Palsy Assotiation 2001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Picture 6" descr="C:\My Documents\My Pictures\amblemi\10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297180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KONVULZIVNE K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6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83" name="73.avi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657600" cy="2743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84" name="Rectangle 9"/>
          <p:cNvSpPr/>
          <p:nvPr/>
        </p:nvSpPr>
        <p:spPr>
          <a:xfrm>
            <a:off x="2706480" y="5334120"/>
            <a:ext cx="436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Bold YU"/>
              </a:rPr>
              <a:t>Toni~ni adverzivni epi napa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u 3. mese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5816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1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981080" y="4572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PRIDRU@ENI ZNACI CENTRALNIH O[TE]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981080" y="1295280"/>
            <a:ext cx="64008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oper Bold YU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Ortopedski proble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kontrakture, kifoskolioza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Mi{i}ni poreme}a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atrofije, fascikula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Infe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recid. hipostatske pneumonije, ITU)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C:\My Documents\My Pictures\CRTEZI\SKOLIOZA - ok.jpg"/>
          <p:cNvPicPr/>
          <p:nvPr/>
        </p:nvPicPr>
        <p:blipFill>
          <a:blip r:embed="rId1"/>
          <a:stretch/>
        </p:blipFill>
        <p:spPr>
          <a:xfrm>
            <a:off x="5105520" y="3886200"/>
            <a:ext cx="174132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88" name="Picture 5" descr="C:\My Documents\My Pictures\amblemi\10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My Documents\My Pictures\MISICI\AHILOVA TETIVA.bmp"/>
          <p:cNvPicPr/>
          <p:nvPr/>
        </p:nvPicPr>
        <p:blipFill>
          <a:blip r:embed="rId3"/>
          <a:stretch/>
        </p:blipFill>
        <p:spPr>
          <a:xfrm>
            <a:off x="3124080" y="3886200"/>
            <a:ext cx="178128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924200" y="2362320"/>
            <a:ext cx="5856120" cy="283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POMO]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DIJAGNOSTI^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old YU"/>
              </a:rPr>
              <a:t>METO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2499840" y="685800"/>
            <a:ext cx="43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NEURORADIOLO[KE 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768680" y="1830240"/>
            <a:ext cx="5582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ULTRAZVUK MOZGA (NEUROSONOGRAFI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SKENER (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MAGNETNA REZONANCA (M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POZITRONA EMISIONA TOMOGRAFIJA (P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1295280" y="3809880"/>
            <a:ext cx="1981440" cy="2197080"/>
            <a:chOff x="1295280" y="3809880"/>
            <a:chExt cx="1981440" cy="2197080"/>
          </a:xfrm>
        </p:grpSpPr>
        <p:pic>
          <p:nvPicPr>
            <p:cNvPr id="296" name="Picture 5" descr="C:\My Documents\My Pictures\NOVI-SKEN\HEMORAGIJE\PVH-IVH-IPH-Lukic Marine mus-21.dan - koronalno-2.jpg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1295280" y="3809880"/>
              <a:ext cx="1981440" cy="17496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297" name="Rectangle 9"/>
            <p:cNvSpPr/>
            <p:nvPr/>
          </p:nvSpPr>
          <p:spPr>
            <a:xfrm>
              <a:off x="1891440" y="563868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I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4"/>
          <p:cNvGrpSpPr/>
          <p:nvPr/>
        </p:nvGrpSpPr>
        <p:grpSpPr>
          <a:xfrm>
            <a:off x="3029760" y="3809880"/>
            <a:ext cx="1977480" cy="2197080"/>
            <a:chOff x="3029760" y="3809880"/>
            <a:chExt cx="1977480" cy="2197080"/>
          </a:xfrm>
        </p:grpSpPr>
        <p:pic>
          <p:nvPicPr>
            <p:cNvPr id="299" name="Picture 6" descr="C:\My Documents\My Pictures\NOVI-SKEN\internet-uz\Dandy - Walker - 7+ agenesio C. Call - radijalne brazde.jpg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3352680" y="3809880"/>
              <a:ext cx="1494000" cy="1752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300" name="Rectangle 10"/>
            <p:cNvSpPr/>
            <p:nvPr/>
          </p:nvSpPr>
          <p:spPr>
            <a:xfrm>
              <a:off x="3029760" y="5638680"/>
              <a:ext cx="19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Agenez. cor. cal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4952880" y="3809880"/>
            <a:ext cx="1752840" cy="2197080"/>
            <a:chOff x="4952880" y="3809880"/>
            <a:chExt cx="1752840" cy="2197080"/>
          </a:xfrm>
        </p:grpSpPr>
        <p:graphicFrame>
          <p:nvGraphicFramePr>
            <p:cNvPr id="302" name="Object 7"/>
            <p:cNvGraphicFramePr/>
            <p:nvPr/>
          </p:nvGraphicFramePr>
          <p:xfrm>
            <a:off x="4952880" y="3809880"/>
            <a:ext cx="1752840" cy="1752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3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3809880"/>
                      <a:ext cx="1752840" cy="1752840"/>
                    </a:xfrm>
                    <a:prstGeom prst="rect">
                      <a:avLst/>
                    </a:prstGeom>
                    <a:ln w="9360">
                      <a:solidFill>
                        <a:srgbClr val="ffff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4" name="Rectangle 11"/>
            <p:cNvSpPr/>
            <p:nvPr/>
          </p:nvSpPr>
          <p:spPr>
            <a:xfrm>
              <a:off x="5488920" y="563868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P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6"/>
          <p:cNvGrpSpPr/>
          <p:nvPr/>
        </p:nvGrpSpPr>
        <p:grpSpPr>
          <a:xfrm>
            <a:off x="6781680" y="3809880"/>
            <a:ext cx="1752840" cy="2197080"/>
            <a:chOff x="6781680" y="3809880"/>
            <a:chExt cx="1752840" cy="2197080"/>
          </a:xfrm>
        </p:grpSpPr>
        <p:pic>
          <p:nvPicPr>
            <p:cNvPr id="306" name="Picture 8" descr="D:\medicina\internet-slike\INFEKCIJE CNS\Encephalitis-transverzalni-1-nedelja-SPECT-transverzalno.gif"/>
            <p:cNvPicPr/>
            <p:nvPr/>
          </p:nvPicPr>
          <p:blipFill>
            <a:blip r:embed="rId6"/>
            <a:stretch/>
          </p:blipFill>
          <p:spPr>
            <a:xfrm>
              <a:off x="6781680" y="3809880"/>
              <a:ext cx="1752840" cy="1752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307" name="Rectangle 12"/>
            <p:cNvSpPr/>
            <p:nvPr/>
          </p:nvSpPr>
          <p:spPr>
            <a:xfrm>
              <a:off x="6829200" y="563868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Herpes encef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2473560" y="685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ELEKTROFIZIOLO[KE 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1958400" y="1676520"/>
            <a:ext cx="5666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EEG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organizacija i epilepti~na aktivn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EMG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brzina nervne i mi{i}ne sprovodljivos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EVOCIRANI POTENCIJALI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VEP, SEP, SS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5" descr="C:\My Documents\My Pictures\EEG\EPI - general tonicno klonicna.gif"/>
          <p:cNvPicPr/>
          <p:nvPr/>
        </p:nvPicPr>
        <p:blipFill>
          <a:blip r:embed="rId2"/>
          <a:stretch/>
        </p:blipFill>
        <p:spPr>
          <a:xfrm>
            <a:off x="4038480" y="3505320"/>
            <a:ext cx="1668600" cy="220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12" name="Picture 6" descr="C:\My Documents\My Pictures\EEG\EPI - parcijalna.gif"/>
          <p:cNvPicPr/>
          <p:nvPr/>
        </p:nvPicPr>
        <p:blipFill>
          <a:blip r:embed="rId3"/>
          <a:stretch/>
        </p:blipFill>
        <p:spPr>
          <a:xfrm>
            <a:off x="5867280" y="3505320"/>
            <a:ext cx="1658880" cy="220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13" name="Picture 7" descr="C:\My Documents\My Pictures\EEG\poligraf.jpg"/>
          <p:cNvPicPr/>
          <p:nvPr/>
        </p:nvPicPr>
        <p:blipFill>
          <a:blip r:embed="rId4"/>
          <a:stretch/>
        </p:blipFill>
        <p:spPr>
          <a:xfrm>
            <a:off x="2173320" y="3505320"/>
            <a:ext cx="1730520" cy="220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pull dir="l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3332520" y="68580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OSTALI PREGL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670760" y="1347840"/>
            <a:ext cx="6747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OFTALMOLOG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Fou, visus, {irina vidnog pol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OTORINOLARINGOLOG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Audiometri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PSIHOLOG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testiran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LOGOPED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dijagnoza govornih smetn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oper Bold YU"/>
              </a:rPr>
              <a:t>METABOLI^KO ISPITIVANJE </a:t>
            </a: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(dif. dg. uro|enih boles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5" descr="E:\SLIKE\PRIKAZ-VIDNOG-PUTA-anatomski-i-shematski.gif"/>
          <p:cNvPicPr/>
          <p:nvPr/>
        </p:nvPicPr>
        <p:blipFill>
          <a:blip r:embed="rId2"/>
          <a:stretch/>
        </p:blipFill>
        <p:spPr>
          <a:xfrm>
            <a:off x="4495680" y="4114800"/>
            <a:ext cx="2362320" cy="1676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18" name="Picture 6" descr="E:\SLIKE\VIDNI-PUT-3d-prikaz.gif"/>
          <p:cNvPicPr/>
          <p:nvPr/>
        </p:nvPicPr>
        <p:blipFill>
          <a:blip r:embed="rId3"/>
          <a:stretch/>
        </p:blipFill>
        <p:spPr>
          <a:xfrm>
            <a:off x="2666880" y="4114800"/>
            <a:ext cx="1779840" cy="1676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19" name="Rectangle 7"/>
          <p:cNvSpPr/>
          <p:nvPr/>
        </p:nvSpPr>
        <p:spPr>
          <a:xfrm>
            <a:off x="4167360" y="586908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oper Bold YU"/>
              </a:rPr>
              <a:t>Vidni put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438280" y="609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PO^ETAK HABILIT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-6045120" y="-455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5"/>
          <p:cNvGrpSpPr/>
          <p:nvPr/>
        </p:nvGrpSpPr>
        <p:grpSpPr>
          <a:xfrm>
            <a:off x="1676520" y="1523880"/>
            <a:ext cx="6858000" cy="4038840"/>
            <a:chOff x="1676520" y="1523880"/>
            <a:chExt cx="6858000" cy="4038840"/>
          </a:xfrm>
        </p:grpSpPr>
        <p:sp>
          <p:nvSpPr>
            <p:cNvPr id="324" name="AutoShape 6"/>
            <p:cNvSpPr/>
            <p:nvPr/>
          </p:nvSpPr>
          <p:spPr>
            <a:xfrm>
              <a:off x="3276720" y="4648320"/>
              <a:ext cx="3657600" cy="761760"/>
            </a:xfrm>
            <a:prstGeom prst="rtTriangl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45929" dir="19571123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5068800" y="3352680"/>
              <a:ext cx="1560600" cy="9907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633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400" spc="-1" strike="noStrike">
                  <a:solidFill>
                    <a:srgbClr val="ffff00"/>
                  </a:solidFill>
                  <a:latin typeface="Cooper Bold YU"/>
                </a:rPr>
                <a:t>6.-9. mese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5068800" y="2241720"/>
              <a:ext cx="1560600" cy="1110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RA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29400" y="3352680"/>
              <a:ext cx="1905120" cy="990720"/>
            </a:xfrm>
            <a:prstGeom prst="rect">
              <a:avLst/>
            </a:prstGeom>
            <a:gradFill rotWithShape="0">
              <a:gsLst>
                <a:gs pos="0">
                  <a:srgbClr val="482400"/>
                </a:gs>
                <a:gs pos="100000">
                  <a:srgbClr val="2e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oper Bold YU"/>
                </a:rPr>
                <a:t> </a:t>
              </a:r>
              <a:r>
                <a:rPr b="0" lang="en-US" sz="1400" spc="-1" strike="noStrike">
                  <a:solidFill>
                    <a:srgbClr val="ffff00"/>
                  </a:solidFill>
                  <a:latin typeface="Cooper Bold YU"/>
                </a:rPr>
                <a:t>&gt; 9. meseci (1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3360600" y="4343400"/>
              <a:ext cx="5173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1676520" y="4343400"/>
              <a:ext cx="1684080" cy="1219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3360600" y="3352680"/>
              <a:ext cx="1708200" cy="9907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633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ooper Bold YU"/>
                </a:rPr>
                <a:t>1.-3. mese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1676520" y="3352680"/>
              <a:ext cx="1684080" cy="9907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400" spc="-1" strike="noStrike">
                  <a:solidFill>
                    <a:srgbClr val="ffff00"/>
                  </a:solidFill>
                  <a:latin typeface="Cooper Bold YU"/>
                </a:rPr>
                <a:t>po ro|enj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6629400" y="2241720"/>
              <a:ext cx="1905120" cy="1110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KAS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3360600" y="2241720"/>
              <a:ext cx="1708200" cy="1110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VRLO RA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1676520" y="2241720"/>
              <a:ext cx="1684080" cy="1110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oper Bold YU"/>
                </a:rPr>
                <a:t>SUPERRA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6629400" y="1523880"/>
              <a:ext cx="1905120" cy="717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ZAKASNE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HABILIT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1676520" y="1523880"/>
              <a:ext cx="4952880" cy="717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PRAVOVREM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HABILIT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9"/>
            <p:cNvSpPr/>
            <p:nvPr/>
          </p:nvSpPr>
          <p:spPr>
            <a:xfrm>
              <a:off x="1676520" y="1523880"/>
              <a:ext cx="68580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1676520" y="3352680"/>
              <a:ext cx="6858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1676520" y="4343400"/>
              <a:ext cx="6858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1676520" y="1523880"/>
              <a:ext cx="0" cy="40388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629400" y="1523880"/>
              <a:ext cx="0" cy="2819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4"/>
            <p:cNvSpPr/>
            <p:nvPr/>
          </p:nvSpPr>
          <p:spPr>
            <a:xfrm>
              <a:off x="1676520" y="5562720"/>
              <a:ext cx="68580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5"/>
            <p:cNvSpPr/>
            <p:nvPr/>
          </p:nvSpPr>
          <p:spPr>
            <a:xfrm>
              <a:off x="8534520" y="1523880"/>
              <a:ext cx="0" cy="40388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6"/>
            <p:cNvSpPr/>
            <p:nvPr/>
          </p:nvSpPr>
          <p:spPr>
            <a:xfrm>
              <a:off x="3360600" y="2241720"/>
              <a:ext cx="5173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7"/>
            <p:cNvSpPr/>
            <p:nvPr/>
          </p:nvSpPr>
          <p:spPr>
            <a:xfrm>
              <a:off x="1676520" y="2241720"/>
              <a:ext cx="16840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8"/>
            <p:cNvSpPr/>
            <p:nvPr/>
          </p:nvSpPr>
          <p:spPr>
            <a:xfrm>
              <a:off x="3360600" y="2241720"/>
              <a:ext cx="0" cy="33210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5068800" y="2241720"/>
              <a:ext cx="0" cy="210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Picture 30" descr="C:\My Documents\My Pictures\amblemi\neonatus.bmp"/>
            <p:cNvPicPr/>
            <p:nvPr/>
          </p:nvPicPr>
          <p:blipFill>
            <a:blip r:embed="rId2"/>
            <a:stretch/>
          </p:blipFill>
          <p:spPr>
            <a:xfrm>
              <a:off x="1676520" y="4343400"/>
              <a:ext cx="16761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31" descr="C:\My Documents\My Pictures\DCO\puzanje 1.jpg"/>
            <p:cNvPicPr/>
            <p:nvPr/>
          </p:nvPicPr>
          <p:blipFill>
            <a:blip r:embed="rId3"/>
            <a:stretch/>
          </p:blipFill>
          <p:spPr>
            <a:xfrm>
              <a:off x="6629400" y="4362480"/>
              <a:ext cx="1905120" cy="12002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350" name="Rectangle 32"/>
            <p:cNvSpPr/>
            <p:nvPr/>
          </p:nvSpPr>
          <p:spPr>
            <a:xfrm>
              <a:off x="1676520" y="1523880"/>
              <a:ext cx="6858000" cy="4038840"/>
            </a:xfrm>
            <a:prstGeom prst="rect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6629400" y="1523880"/>
              <a:ext cx="0" cy="403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Rectangle 34"/>
          <p:cNvSpPr/>
          <p:nvPr/>
        </p:nvSpPr>
        <p:spPr>
          <a:xfrm rot="706200">
            <a:off x="4215600" y="472392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oper Bold YU"/>
              </a:rPr>
              <a:t>USPEH STIMULACI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286000" y="609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TIMSKI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6045120" y="-455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7"/>
          <p:cNvGrpSpPr/>
          <p:nvPr/>
        </p:nvGrpSpPr>
        <p:grpSpPr>
          <a:xfrm>
            <a:off x="1674720" y="1548000"/>
            <a:ext cx="6768000" cy="4905360"/>
            <a:chOff x="1674720" y="1548000"/>
            <a:chExt cx="6768000" cy="4905360"/>
          </a:xfrm>
        </p:grpSpPr>
        <p:sp>
          <p:nvSpPr>
            <p:cNvPr id="357" name="AutoShape 6"/>
            <p:cNvSpPr/>
            <p:nvPr/>
          </p:nvSpPr>
          <p:spPr>
            <a:xfrm rot="2727600">
              <a:off x="2971800" y="2361960"/>
              <a:ext cx="3657600" cy="3276720"/>
            </a:xfrm>
            <a:custGeom>
              <a:avLst/>
              <a:gdLst>
                <a:gd name="textAreaLeft" fmla="*/ 914400 w 3657600"/>
                <a:gd name="textAreaRight" fmla="*/ 2743200 w 3657600"/>
                <a:gd name="textAreaTop" fmla="*/ 819000 h 3276720"/>
                <a:gd name="textAreaBottom" fmla="*/ 245772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50" y="5400"/>
                  </a:lnTo>
                  <a:lnTo>
                    <a:pt x="945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150" y="2700"/>
                  </a:lnTo>
                  <a:lnTo>
                    <a:pt x="12150" y="5400"/>
                  </a:lnTo>
                  <a:lnTo>
                    <a:pt x="16200" y="5400"/>
                  </a:lnTo>
                  <a:lnTo>
                    <a:pt x="16200" y="9450"/>
                  </a:lnTo>
                  <a:lnTo>
                    <a:pt x="18900" y="945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150"/>
                  </a:lnTo>
                  <a:lnTo>
                    <a:pt x="16200" y="12150"/>
                  </a:lnTo>
                  <a:lnTo>
                    <a:pt x="16200" y="16200"/>
                  </a:lnTo>
                  <a:lnTo>
                    <a:pt x="12150" y="16200"/>
                  </a:lnTo>
                  <a:lnTo>
                    <a:pt x="1215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50" y="18900"/>
                  </a:lnTo>
                  <a:lnTo>
                    <a:pt x="9450" y="16200"/>
                  </a:lnTo>
                  <a:lnTo>
                    <a:pt x="5400" y="16200"/>
                  </a:lnTo>
                  <a:lnTo>
                    <a:pt x="5400" y="12150"/>
                  </a:lnTo>
                  <a:lnTo>
                    <a:pt x="2700" y="1215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50"/>
                  </a:lnTo>
                  <a:lnTo>
                    <a:pt x="5400" y="945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4256280" y="182880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RODITELJ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3968640" y="5791320"/>
              <a:ext cx="188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NEUROPEDIJA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2536920" y="228600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FIZIJA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5334120" y="236232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TERAPE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1"/>
            <p:cNvSpPr/>
            <p:nvPr/>
          </p:nvSpPr>
          <p:spPr>
            <a:xfrm>
              <a:off x="6811200" y="3733920"/>
              <a:ext cx="16315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DEFEKTOLOZ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*somato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*logo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*oligofreno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1674720" y="373392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PSIHO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2482560" y="5105520"/>
              <a:ext cx="1195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U^ITEL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*pedag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6429960" y="5105520"/>
              <a:ext cx="1501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DE^JI HIRU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*orto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16"/>
            <p:cNvGrpSpPr/>
            <p:nvPr/>
          </p:nvGrpSpPr>
          <p:grpSpPr>
            <a:xfrm>
              <a:off x="2971800" y="2286000"/>
              <a:ext cx="3657600" cy="3276720"/>
              <a:chOff x="2971800" y="2286000"/>
              <a:chExt cx="3657600" cy="3276720"/>
            </a:xfrm>
          </p:grpSpPr>
          <p:sp>
            <p:nvSpPr>
              <p:cNvPr id="367" name="AutoShape 5"/>
              <p:cNvSpPr/>
              <p:nvPr/>
            </p:nvSpPr>
            <p:spPr>
              <a:xfrm>
                <a:off x="2971800" y="2286000"/>
                <a:ext cx="3657600" cy="3276720"/>
              </a:xfrm>
              <a:custGeom>
                <a:avLst/>
                <a:gdLst>
                  <a:gd name="textAreaLeft" fmla="*/ 914400 w 3657600"/>
                  <a:gd name="textAreaRight" fmla="*/ 2743200 w 3657600"/>
                  <a:gd name="textAreaTop" fmla="*/ 819000 h 3276720"/>
                  <a:gd name="textAreaBottom" fmla="*/ 245772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5400"/>
                    </a:moveTo>
                    <a:lnTo>
                      <a:pt x="9450" y="5400"/>
                    </a:lnTo>
                    <a:lnTo>
                      <a:pt x="9450" y="2700"/>
                    </a:lnTo>
                    <a:lnTo>
                      <a:pt x="8100" y="2700"/>
                    </a:lnTo>
                    <a:lnTo>
                      <a:pt x="10800" y="0"/>
                    </a:lnTo>
                    <a:lnTo>
                      <a:pt x="13500" y="2700"/>
                    </a:lnTo>
                    <a:lnTo>
                      <a:pt x="12150" y="2700"/>
                    </a:lnTo>
                    <a:lnTo>
                      <a:pt x="12150" y="5400"/>
                    </a:lnTo>
                    <a:lnTo>
                      <a:pt x="16200" y="5400"/>
                    </a:lnTo>
                    <a:lnTo>
                      <a:pt x="16200" y="9450"/>
                    </a:lnTo>
                    <a:lnTo>
                      <a:pt x="18900" y="9450"/>
                    </a:lnTo>
                    <a:lnTo>
                      <a:pt x="18900" y="8100"/>
                    </a:lnTo>
                    <a:lnTo>
                      <a:pt x="21600" y="10800"/>
                    </a:lnTo>
                    <a:lnTo>
                      <a:pt x="18900" y="13500"/>
                    </a:lnTo>
                    <a:lnTo>
                      <a:pt x="18900" y="12150"/>
                    </a:lnTo>
                    <a:lnTo>
                      <a:pt x="16200" y="12150"/>
                    </a:lnTo>
                    <a:lnTo>
                      <a:pt x="16200" y="16200"/>
                    </a:lnTo>
                    <a:lnTo>
                      <a:pt x="12150" y="16200"/>
                    </a:lnTo>
                    <a:lnTo>
                      <a:pt x="12150" y="18900"/>
                    </a:lnTo>
                    <a:lnTo>
                      <a:pt x="13500" y="18900"/>
                    </a:lnTo>
                    <a:lnTo>
                      <a:pt x="10800" y="21600"/>
                    </a:lnTo>
                    <a:lnTo>
                      <a:pt x="8100" y="18900"/>
                    </a:lnTo>
                    <a:lnTo>
                      <a:pt x="9450" y="18900"/>
                    </a:lnTo>
                    <a:lnTo>
                      <a:pt x="9450" y="16200"/>
                    </a:lnTo>
                    <a:lnTo>
                      <a:pt x="5400" y="16200"/>
                    </a:lnTo>
                    <a:lnTo>
                      <a:pt x="5400" y="12150"/>
                    </a:lnTo>
                    <a:lnTo>
                      <a:pt x="2700" y="12150"/>
                    </a:lnTo>
                    <a:lnTo>
                      <a:pt x="2700" y="13500"/>
                    </a:lnTo>
                    <a:lnTo>
                      <a:pt x="0" y="10800"/>
                    </a:lnTo>
                    <a:lnTo>
                      <a:pt x="2700" y="8100"/>
                    </a:lnTo>
                    <a:lnTo>
                      <a:pt x="2700" y="9450"/>
                    </a:lnTo>
                    <a:lnTo>
                      <a:pt x="5400" y="945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8" name="Picture 15" descr="C:\My Documents\My Pictures\DCO\kolica.jpg"/>
              <p:cNvPicPr/>
              <p:nvPr/>
            </p:nvPicPr>
            <p:blipFill>
              <a:blip r:embed="rId4"/>
              <a:stretch/>
            </p:blipFill>
            <p:spPr>
              <a:xfrm>
                <a:off x="4191120" y="3124080"/>
                <a:ext cx="1260360" cy="1676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</p:spTree>
  </p:cSld>
  <p:transition>
    <p:pull dir="l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2286000" y="609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STIMULACIONI FIZIKALNI TRE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-6045120" y="-455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9"/>
          <p:cNvGrpSpPr/>
          <p:nvPr/>
        </p:nvGrpSpPr>
        <p:grpSpPr>
          <a:xfrm>
            <a:off x="1447920" y="1600200"/>
            <a:ext cx="7238880" cy="4971240"/>
            <a:chOff x="1447920" y="1600200"/>
            <a:chExt cx="7238880" cy="4971240"/>
          </a:xfrm>
        </p:grpSpPr>
        <p:sp>
          <p:nvSpPr>
            <p:cNvPr id="373" name="Rectangle 5"/>
            <p:cNvSpPr/>
            <p:nvPr/>
          </p:nvSpPr>
          <p:spPr>
            <a:xfrm>
              <a:off x="1933560" y="1673280"/>
              <a:ext cx="6159240" cy="48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Zapo~inje se odma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po postavljanju dijagnoze DCO, il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kod postojanja sumnje na DCO (disharmonij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Redovno se provodi (svakodnevn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Svaki tretman je individualan (prilago|en detet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Kontinuirano se prati dostignuti stepen razvoj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Roditelji se obu~avaju za izvo|enje pojedinih ve`b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Uspeh terapije zavisi o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te`ine cerebralnog o{te}en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pravog izbora ve`b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kontinuiteta stimulacij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Rezultati tretmana mogu biti raznoliki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potpuna normalizacija motori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- hendikep razli~itog step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1447920" y="1600200"/>
              <a:ext cx="7238880" cy="228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1447920" y="4038480"/>
              <a:ext cx="7238880" cy="1219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"/>
            <p:cNvSpPr/>
            <p:nvPr/>
          </p:nvSpPr>
          <p:spPr>
            <a:xfrm>
              <a:off x="1447920" y="5410080"/>
              <a:ext cx="7238880" cy="1143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252240" y="533520"/>
            <a:ext cx="28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VREME NASTA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LEZIJE CNS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698120" y="1523880"/>
            <a:ext cx="65174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oper Bold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old YU"/>
              </a:rPr>
              <a:t>Lezija mozga mo`e nastati sve do kraja prvog meseca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 `iv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oper Bold YU"/>
              </a:rPr>
              <a:t>(prvih nekoliko meseci - </a:t>
            </a:r>
            <a:r>
              <a:rPr b="0" lang="en-US" sz="1600" spc="-1" strike="noStrike">
                <a:solidFill>
                  <a:srgbClr val="00ccff"/>
                </a:solidFill>
                <a:latin typeface="Cooper Bold YU"/>
              </a:rPr>
              <a:t>Nelson 1986.</a:t>
            </a:r>
            <a:r>
              <a:rPr b="0" lang="en-US" sz="1600" spc="-1" strike="noStrike">
                <a:solidFill>
                  <a:srgbClr val="ffff00"/>
                </a:solidFill>
                <a:latin typeface="Cooper Bold Y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1447920" y="2362320"/>
            <a:ext cx="2133360" cy="3657600"/>
            <a:chOff x="1447920" y="2362320"/>
            <a:chExt cx="2133360" cy="3657600"/>
          </a:xfrm>
        </p:grpSpPr>
        <p:pic>
          <p:nvPicPr>
            <p:cNvPr id="110" name="Picture 5" descr="C:\My Documents\My Pictures\ANATOMIJA\trudnoca-9.jpg"/>
            <p:cNvPicPr/>
            <p:nvPr/>
          </p:nvPicPr>
          <p:blipFill>
            <a:blip r:embed="rId1"/>
            <a:stretch/>
          </p:blipFill>
          <p:spPr>
            <a:xfrm>
              <a:off x="1447920" y="2819520"/>
              <a:ext cx="2097000" cy="3200400"/>
            </a:xfrm>
            <a:prstGeom prst="rect">
              <a:avLst/>
            </a:prstGeom>
            <a:ln w="12600">
              <a:solidFill>
                <a:srgbClr val="ffff00"/>
              </a:solidFill>
              <a:miter/>
            </a:ln>
          </p:spPr>
        </p:pic>
        <p:sp>
          <p:nvSpPr>
            <p:cNvPr id="111" name="Rectangle 6"/>
            <p:cNvSpPr/>
            <p:nvPr/>
          </p:nvSpPr>
          <p:spPr>
            <a:xfrm>
              <a:off x="1447920" y="2362320"/>
              <a:ext cx="2133360" cy="304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2012040" y="2362320"/>
              <a:ext cx="96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TRUDNO]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6095880" y="2362320"/>
            <a:ext cx="2176560" cy="3657600"/>
            <a:chOff x="6095880" y="2362320"/>
            <a:chExt cx="2176560" cy="3657600"/>
          </a:xfrm>
        </p:grpSpPr>
        <p:pic>
          <p:nvPicPr>
            <p:cNvPr id="114" name="Picture 9" descr="C:\My Documents\My Pictures\CRTEZI\NEONATUS SPREDA-ok semifleksija-alterirajuci pokreti.jpg"/>
            <p:cNvPicPr/>
            <p:nvPr/>
          </p:nvPicPr>
          <p:blipFill>
            <a:blip r:embed="rId2"/>
            <a:stretch/>
          </p:blipFill>
          <p:spPr>
            <a:xfrm>
              <a:off x="6095880" y="2819520"/>
              <a:ext cx="2176560" cy="3200400"/>
            </a:xfrm>
            <a:prstGeom prst="rect">
              <a:avLst/>
            </a:prstGeom>
            <a:ln w="12600">
              <a:solidFill>
                <a:srgbClr val="ffff00"/>
              </a:solidFill>
              <a:miter/>
            </a:ln>
          </p:spPr>
        </p:pic>
        <p:sp>
          <p:nvSpPr>
            <p:cNvPr id="115" name="Rectangle 10"/>
            <p:cNvSpPr/>
            <p:nvPr/>
          </p:nvSpPr>
          <p:spPr>
            <a:xfrm>
              <a:off x="6095880" y="2362320"/>
              <a:ext cx="2133720" cy="30456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332400" y="2362320"/>
              <a:ext cx="17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NEONATALNI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3733920" y="2362320"/>
            <a:ext cx="2209680" cy="3636720"/>
            <a:chOff x="3733920" y="2362320"/>
            <a:chExt cx="2209680" cy="3636720"/>
          </a:xfrm>
        </p:grpSpPr>
        <p:pic>
          <p:nvPicPr>
            <p:cNvPr id="118" name="Picture 13" descr="C:\My Documents\My Pictures\CRTEZI\PORODJAJ NORMALAN - POVREDA PLEKSUSA-ok.jpg"/>
            <p:cNvPicPr/>
            <p:nvPr/>
          </p:nvPicPr>
          <p:blipFill>
            <a:blip r:embed="rId3"/>
            <a:stretch/>
          </p:blipFill>
          <p:spPr>
            <a:xfrm>
              <a:off x="3733920" y="2819520"/>
              <a:ext cx="2209680" cy="1596960"/>
            </a:xfrm>
            <a:prstGeom prst="rect">
              <a:avLst/>
            </a:prstGeom>
            <a:ln w="12600">
              <a:solidFill>
                <a:srgbClr val="ffff00"/>
              </a:solidFill>
              <a:miter/>
            </a:ln>
          </p:spPr>
        </p:pic>
        <p:sp>
          <p:nvSpPr>
            <p:cNvPr id="119" name="Rectangle 14"/>
            <p:cNvSpPr/>
            <p:nvPr/>
          </p:nvSpPr>
          <p:spPr>
            <a:xfrm>
              <a:off x="3733920" y="2362320"/>
              <a:ext cx="2209680" cy="304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4453920" y="23623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oper Bold YU"/>
                </a:rPr>
                <a:t>PORO\A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icture 16" descr="C:\My Documents\My Pictures\patologija\KARLICNI PORODJAJ- CRTEZ.jpg"/>
            <p:cNvPicPr/>
            <p:nvPr/>
          </p:nvPicPr>
          <p:blipFill>
            <a:blip r:embed="rId4"/>
            <a:stretch/>
          </p:blipFill>
          <p:spPr>
            <a:xfrm>
              <a:off x="3733920" y="4419720"/>
              <a:ext cx="2209680" cy="15793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</p:grpSp>
      <p:pic>
        <p:nvPicPr>
          <p:cNvPr id="122" name="Picture 17" descr="C:\My Documents\My Pictures\amblemi\101.jpg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2133720" y="533520"/>
            <a:ext cx="5486400" cy="916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old YU"/>
              </a:rPr>
              <a:t>ZAKLJU^A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7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2"/>
          <p:cNvGrpSpPr/>
          <p:nvPr/>
        </p:nvGrpSpPr>
        <p:grpSpPr>
          <a:xfrm>
            <a:off x="1752480" y="1752480"/>
            <a:ext cx="6608160" cy="4654080"/>
            <a:chOff x="1752480" y="1752480"/>
            <a:chExt cx="6608160" cy="4654080"/>
          </a:xfrm>
        </p:grpSpPr>
        <p:sp>
          <p:nvSpPr>
            <p:cNvPr id="380" name="Rectangle 5"/>
            <p:cNvSpPr/>
            <p:nvPr/>
          </p:nvSpPr>
          <p:spPr>
            <a:xfrm>
              <a:off x="1788120" y="1752480"/>
              <a:ext cx="6572520" cy="46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2400" spc="-1" strike="noStrike">
                  <a:solidFill>
                    <a:srgbClr val="66ff33"/>
                  </a:solidFill>
                  <a:latin typeface="Cooper Bold YU"/>
                </a:rPr>
                <a:t>RANA STIMULACIJA DECE</a:t>
              </a: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SA SUMNJOM NA CEREBRALNU LEZIJ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MANJA JE ”GRE[KA”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NEG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Cooper Bold YU"/>
                </a:rPr>
                <a:t>ZAKASNELI TRET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KADA SU NEUROLO[KE SEKVELE O^IGLED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oper Bold YU"/>
                </a:rPr>
                <a:t>A USPEH TERAPIJE MINIMA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752480" y="1752480"/>
              <a:ext cx="5105520" cy="533520"/>
            </a:xfrm>
            <a:prstGeom prst="flowChartAlternateProcess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AutoShape 11"/>
            <p:cNvSpPr/>
            <p:nvPr/>
          </p:nvSpPr>
          <p:spPr>
            <a:xfrm>
              <a:off x="1752480" y="4800600"/>
              <a:ext cx="4343400" cy="533520"/>
            </a:xfrm>
            <a:prstGeom prst="flowChartAlternateProcess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2004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INC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1600200" y="1752480"/>
            <a:ext cx="6629400" cy="1828800"/>
            <a:chOff x="1600200" y="1752480"/>
            <a:chExt cx="6629400" cy="1828800"/>
          </a:xfrm>
        </p:grpSpPr>
        <p:sp>
          <p:nvSpPr>
            <p:cNvPr id="125" name="Rectangle 4"/>
            <p:cNvSpPr/>
            <p:nvPr/>
          </p:nvSpPr>
          <p:spPr>
            <a:xfrm>
              <a:off x="1978200" y="1752480"/>
              <a:ext cx="5819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CP se javlja u 2-2.5 deteta na 1000 `ivoro|en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(2/1000 prema podacima iz 1991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*Poslednjih decenija postoji tendencija porasta zb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pobolj{anja perinatalne intenzivne nege i ve}e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oper Bold YU"/>
                </a:rPr>
                <a:t>pre`ivljavanja rizi~ne novoro|en~a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1600200" y="1752480"/>
              <a:ext cx="6629400" cy="1828800"/>
            </a:xfrm>
            <a:prstGeom prst="flowChartAlternateProcess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Picture 6" descr="C:\My Documents\My Pictures\amblemi\Globus - ok.jpg"/>
          <p:cNvPicPr/>
          <p:nvPr/>
        </p:nvPicPr>
        <p:blipFill>
          <a:blip r:embed="rId1"/>
          <a:stretch/>
        </p:blipFill>
        <p:spPr>
          <a:xfrm>
            <a:off x="2666880" y="4038480"/>
            <a:ext cx="4267440" cy="24116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128" name="AutoShape 7"/>
          <p:cNvSpPr/>
          <p:nvPr/>
        </p:nvSpPr>
        <p:spPr>
          <a:xfrm>
            <a:off x="3505320" y="4343400"/>
            <a:ext cx="2514600" cy="60948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7c0000"/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2-2.5/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C:\My Documents\My Pictures\amblemi\10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859480" y="3808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IDENTIFIKOVANI UZRO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oper Bold YU"/>
              </a:rPr>
              <a:t>CEREBRALNE PAR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523880" y="1600200"/>
            <a:ext cx="6705720" cy="5100480"/>
            <a:chOff x="1523880" y="1600200"/>
            <a:chExt cx="6705720" cy="5100480"/>
          </a:xfrm>
        </p:grpSpPr>
        <p:grpSp>
          <p:nvGrpSpPr>
            <p:cNvPr id="132" name="Group 4"/>
            <p:cNvGrpSpPr/>
            <p:nvPr/>
          </p:nvGrpSpPr>
          <p:grpSpPr>
            <a:xfrm>
              <a:off x="1523880" y="1600200"/>
              <a:ext cx="6705720" cy="5100480"/>
              <a:chOff x="1523880" y="1600200"/>
              <a:chExt cx="6705720" cy="5100480"/>
            </a:xfrm>
          </p:grpSpPr>
          <p:graphicFrame>
            <p:nvGraphicFramePr>
              <p:cNvPr id="133" name="Object 5"/>
              <p:cNvGraphicFramePr/>
              <p:nvPr/>
            </p:nvGraphicFramePr>
            <p:xfrm>
              <a:off x="1523880" y="1600200"/>
              <a:ext cx="6705720" cy="51004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34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23880" y="1600200"/>
                        <a:ext cx="6705720" cy="510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35" name="Group 6"/>
              <p:cNvGrpSpPr/>
              <p:nvPr/>
            </p:nvGrpSpPr>
            <p:grpSpPr>
              <a:xfrm>
                <a:off x="2517120" y="2209680"/>
                <a:ext cx="4412160" cy="3568320"/>
                <a:chOff x="2517120" y="2209680"/>
                <a:chExt cx="4412160" cy="3568320"/>
              </a:xfrm>
            </p:grpSpPr>
            <p:sp>
              <p:nvSpPr>
                <p:cNvPr id="136" name="Rectangle 7"/>
                <p:cNvSpPr/>
                <p:nvPr/>
              </p:nvSpPr>
              <p:spPr>
                <a:xfrm>
                  <a:off x="6095880" y="3048120"/>
                  <a:ext cx="83340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oper Bold YU"/>
                    </a:rPr>
                    <a:t>NISKA PT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oper Bold YU"/>
                    </a:rPr>
                    <a:t>35-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oper Bold YU"/>
                    </a:rPr>
                    <a:t>4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8"/>
                <p:cNvSpPr/>
                <p:nvPr/>
              </p:nvSpPr>
              <p:spPr>
                <a:xfrm>
                  <a:off x="4727520" y="5410080"/>
                  <a:ext cx="927360" cy="36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OSTALI UZROC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ooper Bold YU"/>
                    </a:rPr>
                    <a:t>22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9"/>
                <p:cNvSpPr/>
                <p:nvPr/>
              </p:nvSpPr>
              <p:spPr>
                <a:xfrm>
                  <a:off x="3550680" y="5181480"/>
                  <a:ext cx="67896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ooper Bold YU"/>
                    </a:rPr>
                    <a:t>METABOL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ooper Bold YU"/>
                    </a:rPr>
                    <a:t>BOLEST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oper Bold YU"/>
                    </a:rPr>
                    <a:t>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0"/>
                <p:cNvSpPr/>
                <p:nvPr/>
              </p:nvSpPr>
              <p:spPr>
                <a:xfrm>
                  <a:off x="2911680" y="4724280"/>
                  <a:ext cx="648720" cy="36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ooper Bold YU"/>
                    </a:rPr>
                    <a:t>INFEKCIJ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oper Bold YU"/>
                    </a:rPr>
                    <a:t>5-10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11"/>
                <p:cNvSpPr/>
                <p:nvPr/>
              </p:nvSpPr>
              <p:spPr>
                <a:xfrm>
                  <a:off x="2517120" y="3886200"/>
                  <a:ext cx="80568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CEREBRAL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DISGENEZIJ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ooper Bold YU"/>
                    </a:rPr>
                    <a:t>5-10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2"/>
                <p:cNvSpPr/>
                <p:nvPr/>
              </p:nvSpPr>
              <p:spPr>
                <a:xfrm>
                  <a:off x="2668680" y="3200400"/>
                  <a:ext cx="99000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INTRAPARTALN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ASFIKSIJ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ooper Bold YU"/>
                    </a:rPr>
                    <a:t>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13"/>
                <p:cNvSpPr/>
                <p:nvPr/>
              </p:nvSpPr>
              <p:spPr>
                <a:xfrm>
                  <a:off x="3395880" y="2590920"/>
                  <a:ext cx="904680" cy="6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INTRAUTERINI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ISHEMI^N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IN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ooper Bold YU"/>
                    </a:rPr>
                    <a:t>5-10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14"/>
                <p:cNvSpPr/>
                <p:nvPr/>
              </p:nvSpPr>
              <p:spPr>
                <a:xfrm>
                  <a:off x="4179240" y="2209680"/>
                  <a:ext cx="67752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GENETSK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Cooper Bold YU"/>
                    </a:rPr>
                    <a:t>GRE[K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ooper Bold YU"/>
                    </a:rPr>
                    <a:t>2-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Rectangle 15"/>
            <p:cNvSpPr/>
            <p:nvPr/>
          </p:nvSpPr>
          <p:spPr>
            <a:xfrm>
              <a:off x="1600200" y="1676520"/>
              <a:ext cx="6553080" cy="49528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16" descr="C:\My Documents\My Pictures\CRTEZI\DCO.-OKjpg.jpg"/>
          <p:cNvPicPr/>
          <p:nvPr/>
        </p:nvPicPr>
        <p:blipFill>
          <a:blip r:embed="rId3"/>
          <a:stretch/>
        </p:blipFill>
        <p:spPr>
          <a:xfrm>
            <a:off x="6400800" y="4495680"/>
            <a:ext cx="1598760" cy="1981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46" name="Picture 17" descr="C:\My Documents\My Pictures\amblemi\101.jpg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8"/>
          <p:cNvSpPr/>
          <p:nvPr/>
        </p:nvSpPr>
        <p:spPr>
          <a:xfrm>
            <a:off x="2934000" y="1752480"/>
            <a:ext cx="40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Cooper Bold YU"/>
              </a:rPr>
              <a:t>(United Cerebral Palsy Assotiation 2001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2004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ETIOLO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725840" y="2209680"/>
            <a:ext cx="64396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1.  </a:t>
            </a: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Prenatalni faktori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 (maternalni i faktori oko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prenatalna nutricija/bolesti maj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infekcije majke (TO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lekovi (estrogen, tireoidni hormo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metaboli~ne bolesti (diajabetes meli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kongenitalne ili hereditarne anomal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niska PTM – ”small for da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(40% dece sa PTM ispod 1000g. ima D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295280" y="2133720"/>
            <a:ext cx="7239240" cy="2895480"/>
          </a:xfrm>
          <a:prstGeom prst="flowChartAlternateProcess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2004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ETIOLO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83360" y="2209680"/>
            <a:ext cx="66074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2.  </a:t>
            </a: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Perinatalni fak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prematuri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neonatalna asfik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intrakranijalna hemorag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hiperbilirubinemija (inkopatibilija) ret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prematurna ruptura membrana (placenta previj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respiratorni distres sindrom (R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066680" y="2133720"/>
            <a:ext cx="7696440" cy="2514600"/>
          </a:xfrm>
          <a:prstGeom prst="flowChartAlternateProcess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3130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2004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oper Bold YU"/>
              </a:rPr>
              <a:t>ETIOLO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559520" y="1981080"/>
            <a:ext cx="588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3.  </a:t>
            </a:r>
            <a:r>
              <a:rPr b="0" lang="en-US" sz="1800" spc="-1" strike="noStrike">
                <a:solidFill>
                  <a:srgbClr val="ff0000"/>
                </a:solidFill>
                <a:latin typeface="Cooper Bold YU"/>
              </a:rPr>
              <a:t>Postnatalni fak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trauma g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infekcija CNS-a (encefalitis, meningit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intrakranijalna hemorag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tromboza krvnih sudova mozga usled U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hidrocefalus (kasno nastali ili lo{e le~e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oper Bold YU"/>
              </a:rPr>
              <a:t>* trovanja (lekovi, gasovi it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066680" y="1905120"/>
            <a:ext cx="7696440" cy="2590560"/>
          </a:xfrm>
          <a:prstGeom prst="flowChartAlternateProcess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C:\My Documents\My Pictures\amblemi\10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772400" y="152280"/>
            <a:ext cx="1219320" cy="1105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18:29:48Z</dcterms:created>
  <dc:creator>Boban Obradovic</dc:creator>
  <dc:description/>
  <dc:language>en-US</dc:language>
  <cp:lastModifiedBy>Win7</cp:lastModifiedBy>
  <dcterms:modified xsi:type="dcterms:W3CDTF">2016-11-05T20:42:47Z</dcterms:modified>
  <cp:revision>87</cp:revision>
  <dc:subject/>
  <dc:title>No Slide Title</dc:title>
</cp:coreProperties>
</file>