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76B-15ED-4604-AEC8-C26FCF05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8454-4177-44A0-81D5-840F2F46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0E37-E6C8-4C83-B1F1-FB44714C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0E4-AB4B-4A57-9BC7-C63659DF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1A6-87AE-446A-836C-8F618EFA5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6C63-4D16-47EC-9805-B84C22DC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2062-05AA-4BE3-9B0E-FA376F61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EE6-6312-4520-B6D7-927C1B23E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5B95-3F2E-4BB2-8239-D2531889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BC7-E2C4-4E94-999A-0AF69174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4970-1E1B-4799-A610-3E5832337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817-BA04-47C4-A142-794EEAE70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E09B-B435-4EEB-B150-C5FDEF43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456B-4BDB-4CCE-8398-100771A8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57C-C9FF-4E4A-A6AE-4DBA6513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E3D9-DF1A-48CE-BD6F-70D84B75D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A4C-65B1-4B51-94E7-782A2D57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72C-2CE3-42B8-BAC1-066688CF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CD4C-5113-47FD-B887-F2B42DFC9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EFA-C13B-4BC3-B33D-988F7FD1D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F75-1CBC-4205-9BE2-3DC566F3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D751-E270-427F-87B2-94223AAB6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4F60-4D27-4249-B49E-B038719C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552-574C-4774-AADC-F75DE6385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2D89-3454-4B63-9426-D960005C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EBE-C413-421D-9C2C-99F465AD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E21-4EA2-41FC-88C1-6580F4497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A85C-6F71-4CD9-9098-69F4FAC7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1AB-74A9-4E6F-BAC1-A91DBFED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645-67D0-4DEE-987C-EAE82F8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C69-5F8B-4A5B-BAFC-014F6958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625-725A-4E48-9717-1C42013B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094-1387-4F7E-9A75-FC777C19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A97-C472-45D4-9523-9F3FFFAF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602-B38E-4EA7-8366-910F1275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534-B143-4415-AD2A-51F1A039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1A2-D907-4A0B-9600-9073716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601-D551-482F-B370-096E7DDE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D0F-1BD7-48ED-8DFD-253D48C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C74-C4A8-45B0-9E63-A581A5A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EC8-697B-4460-AC8F-08CED4F8C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oup 7" descr=""/>
          <p:cNvPicPr/>
          <p:nvPr/>
        </p:nvPicPr>
        <p:blipFill>
          <a:blip r:embed="rId1"/>
          <a:stretch/>
        </p:blipFill>
        <p:spPr>
          <a:xfrm>
            <a:off x="1427040" y="2189160"/>
            <a:ext cx="6570720" cy="225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984320" y="-72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линички центар Крагујевац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09200" y="515016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роф. др Слободан Обрадовић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587600" y="3042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БРОЈ И ТРАЈАЊЕ НАПАД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53240" y="2010240"/>
            <a:ext cx="476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росечан број: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2-3 месечно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росечно трајање: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2-6</a:t>
            </a:r>
            <a:r>
              <a:rPr b="1" lang="sr-CS" sz="3600" spc="-1" strike="noStrike">
                <a:solidFill>
                  <a:srgbClr val="000000"/>
                </a:solidFill>
                <a:latin typeface="Cooper Bold YU"/>
              </a:rPr>
              <a:t>сат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300680" y="30420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РОВОЦИРАЈУЋИ ФАКТОР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2526480" y="1449360"/>
            <a:ext cx="428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трес, анксиозност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Умор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рекомерно спавањ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Депривација с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Лаке повреде глав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рекомерни напор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енстру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утовањ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Дије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Различити мирис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Глад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Леков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300680" y="-36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РОВОЦИРАЈУЋИ ФАКТОР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990720" y="362160"/>
            <a:ext cx="85341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Вазоактивне супсанце у хран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ИТРИТ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шунк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алам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лани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ТИРАМИН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ир, качкављ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црно вино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ФЕНИЛЕТИЛАМИН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Чоколад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моционалне реакције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често преципитирају напад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игренска личност ?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тидљив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овучен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ензитивн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флексибилн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750040" y="-360"/>
            <a:ext cx="38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oper Bold YU"/>
              </a:rPr>
              <a:t>НАСЛЕЂИВАЊЕ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2" name="Rectangle 238"/>
          <p:cNvSpPr/>
          <p:nvPr/>
        </p:nvSpPr>
        <p:spPr>
          <a:xfrm>
            <a:off x="960120" y="1463040"/>
            <a:ext cx="736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д деце са мигреном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50-90% рођака је такође и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Тип наслеђа је непознат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утосомно доминантно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а различитом генском пенетрацијом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мплексно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ултифакторијално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2"/>
          <p:cNvSpPr/>
          <p:nvPr/>
        </p:nvSpPr>
        <p:spPr>
          <a:xfrm>
            <a:off x="2121840" y="273960"/>
            <a:ext cx="46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4" name="Rectangle 65"/>
          <p:cNvSpPr/>
          <p:nvPr/>
        </p:nvSpPr>
        <p:spPr>
          <a:xfrm>
            <a:off x="533520" y="1996920"/>
            <a:ext cx="8086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РВЕ 2. ГОДИНЕ ЖИВО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Офталмоплегија (и код одојчади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аралитички страбизам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обично очни мишИћи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нерв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раје: неколико сати до неколико недељ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121840" y="273960"/>
            <a:ext cx="46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57320" y="1601280"/>
            <a:ext cx="8086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3-5. ГОДИНЕ ЖИВО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ол у трбух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Повраћање (могућа кетоацидоза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фталмоплегија (могућа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5-6. ГОДИНЕ ЖИВО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Главобоља (почињу се жалити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ол у трбух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121840" y="273960"/>
            <a:ext cx="46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57320" y="2027520"/>
            <a:ext cx="8086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7-10. ГОДИНЕ ЖИВО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Главобоља (доминира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ол у трбух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у то доба се може разликова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класична од обичне мигрен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62480" y="30420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979920" y="928440"/>
            <a:ext cx="740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МИГРЕНА СА АУРОМ 15%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МИГРЕНА БЕЗ АУРЕ  70%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ОМПЛИКОВАНА МИГРЕ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Хемилпегич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Офталмоплегич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Базилар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Акутна конфузн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2674800" y="1980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ДИЈАГНОСТИК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225440" y="1369440"/>
            <a:ext cx="7709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детаљан опис напад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мигрена у породици 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НЕУРОЛОШКИ НАЛАЗ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уредан између напад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ОФТАЛМОЛОШКИ НАЛАЗ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уредан између напад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ЕЕГ НАЛАЗ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некарактеристичан за мигрену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може показати промене током напад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(окципитално пражњење шиљака код базиларне миг.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ВИЗУЕЛНИ ЕВОЦИРАНИ ПОТЕНЦИЈАЛИ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дијагностички тест за мигрену (Мортимер 1990.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ДОПЛЕР КРВНИХ СУДОВА ВРАТА И ГЛАВЕ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може показати васкуларне измене током напад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НЕУРОРАДИОЛОГИЈ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има значаја у диференцијалној дијагнози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507480" y="3042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70680" y="1216440"/>
            <a:ext cx="7137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РЕВЕНТИВНЕ МЕР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сихолошка подршк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храбрењ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релаксац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хипноз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иофеедбацк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лиминација ”триггер” фактор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упстанци у хран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тресних ситуац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ромена начина живо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ан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схран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87760" y="1889640"/>
            <a:ext cx="761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Главобоља је чест проблем у дец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Дете тачно локализује бол у глав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после 5. године.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507480" y="3042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-315000" y="1671480"/>
            <a:ext cx="999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ИМПТОМАТСКА ТЕРАПИЈ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РОТИВ БОЛ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стероидни аналгетици: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Бруфен 100-200мг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алицилати 250-1000мг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Ацетаминофен 5оомг 1-2 табл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РОТИВ МУКЕ И ПОВРАЋАЊ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Антиеметици, антихистаминиц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утрамид (Метоклопрамид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хенерган (Прометазина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и.в. рехидрација код тежег напад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рохлорперазине  (код адолесцената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3507480" y="3042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-1040040" y="1542240"/>
            <a:ext cx="1048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ПРЕКИД НАПАДА МИГРЕНЕ (преко 12-18г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Дихидроерготамин (ДХЕ):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Дитамин ив, им, назални спреј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еротонински агонисти (5ХТ 1 агонисти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риптани 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МИГРАН (Суматриптан)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азални спреј 10 мг ,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50 и 100мг тбл. п.о. и с.ц.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РИЗАТРИПТАН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920320" y="456840"/>
            <a:ext cx="35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РОФИЛАКС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57800" y="1442520"/>
            <a:ext cx="837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ИНДИКАЦИЈЕ ЗА ПРОФИЛАКС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 или више изостанака из школе месечно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1-2 главобоље недељно које ремете активност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Слаб успех терапије за прекид напад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препознавање провокативних фактор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Компликован мигре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хемиплегич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Базилар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Избор лека зависи и од узраста детет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ротективни ефекат преко антагонизм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серотонинских 2Б и 2Ц рецептор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рофилакса траје 3-18 месеци (просечно 6 месеци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3299400" y="456840"/>
            <a:ext cx="27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РОГНОЗ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523880" y="1626840"/>
            <a:ext cx="7086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10 година праћењ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62% без напада   38% мигре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0 година праћењ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2% рецидив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0% мигре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КУМУЛАТИВНИ ПОДАЦ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40% БЕЗ НАПАДА (ТРАЈНА РЕМИСИЈА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0% ПОВРЕМЕНИ РЕЦИДИВИ НАПАД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0% МИГРЕНА ЧИТАВОГ ЖИВОТ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04920" y="30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НЗИОНА ГЛАВОБОЉ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609480" y="21319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oper Bold YU"/>
              </a:rPr>
              <a:t>Главобоља која настаје због продужене контракције мишића врата и поглавине,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као реакција на стрес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04920" y="30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НЗИОНА ГЛАВОБОЉ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85800" y="15228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од адолесцената и одраслих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ово је најчешћа форма главобоље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Психички фактори доводе до главобоље: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1. Непосредно &gt;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конверзијом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2. Посредно &gt;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активацијом миогеног 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васкуларног механизм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304920" y="30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НЗИОНА ГЛАВОБОЉ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5800" y="115488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ЛОКАЛИЗАЦИЈА ГЛАВОБОЉЕ: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ПОТИЉАЧНА, НЕОДРЕЂЕ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ЦЕЛА ГЛАВА (МЕЊА МЕСТО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ИНТЕНЗИТЕТ ГЛАВОБОЉ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ЛАКА ИЛИ УМЕРЕ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 РЕМЕТИ СВАКОДНЕВНУ АКТИВНОСТ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БЕЗ ПРАТЕЋИХ ЗНАКОВА И СИМПТОМ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МА МУКЕ, ПОВРАЋАЊ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БЕЗ ПОРЕМЕЋАЈА ВИДА, ИДР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УРОЛОШКИ ПРЕГЛЕД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БОЛНА ОСЕТЉИВОСТ ПРИПО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МИШИЋА ВРАТА ЗА ОКЦИПИТАЛНУ КОСТ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04920" y="30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НЗИОНА ГЛАВОБОЉ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136836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УВЕРАВАЊЕ ДА НИЈЕ ОРГАНСКА: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ЕПОТРЕБНЕ ЛАБОРТОР. АНАЛИЗ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АВЕТ О ИЗБЕГАВАЊУ УЗРОКА СТРЕС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РЕШАВАЊЕ КОНФЛИКТА (ПСИХОЛОГ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ЕДИКАМЕН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БУПРОФЕН (БРУФЕН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АРАЦЕТАМОЛ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АЛИЦИЛА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МИТРИПТИЛИН (ретко потребан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2030400" y="304200"/>
            <a:ext cx="51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086840" y="1216440"/>
            <a:ext cx="7546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ОЛНЕ СТРУКТУРЕ ГЛАВЕ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ртерије интра и екстракранијалн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Велике вене и венски синус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Кранијална и цервикална мускулатур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енингее на бази мозг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кстракранијалне структуре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кости и мишићи главе и лиц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андибуларни зглоб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зуб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осна дупљ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инуси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3"/>
          <p:cNvSpPr/>
          <p:nvPr/>
        </p:nvSpPr>
        <p:spPr>
          <a:xfrm>
            <a:off x="2406960" y="38016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910080" y="1297080"/>
            <a:ext cx="7860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НТРАКРАНИЈАЛНИ УЗРОЦ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Васкуларни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ракц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дилат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нфлам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омерања можданих структура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умор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псцес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хемато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овећања интракранијалног притиск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Директан притисак на кранијалне нерв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2406960" y="38016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371600" y="1677240"/>
            <a:ext cx="7159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КСТРАКРАНИЈАЛНИ УЗРОЦ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Продужена мишићна контракц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оглавин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вра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атолошки процеси на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инусим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зуби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к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костима глав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409840" y="3805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71800" y="1219680"/>
            <a:ext cx="84848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ГЛАВОБОЉА у деце се може вршити пре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ЛОКАЛИЗАЦИЈ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ТИОЛОГИЈ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ПАТОФИЗИОЛОГИЈ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КЛИНИЧКОЈ СИМПТОМАТОЛОГИЈ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ВРЕМЕНСКО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ПОЈАВЉИВАЊ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РАЈАЊ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ЕЖИН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ГЛАВОБОЉ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990720" y="-10800"/>
            <a:ext cx="7924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ГЛАВОБОЉА се практично испољава као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КУТН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нфекциј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(респират., ИТУ, менингитис …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КУТНА РЕКУРЕНТ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гре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ХРОНИЧНА ПРОГРЕСИВ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умори ЦНС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ХРОНИЧНА НЕПРОГРЕСИВ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ензио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КОМБИНОВАН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72040" y="304200"/>
            <a:ext cx="31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oper Bold YU"/>
              </a:rPr>
              <a:t>М И Г Р Е Н 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838080" y="1068840"/>
            <a:ext cx="7696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oper Bold YU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кутна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, рекурентна, пулзирајућа главобољ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Различитог је интензитета и трајањ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Прате је болови у трбуху, мука, повраћање, бледило, фото-фонофоб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Код већине се потпуни опоравак јавља после спавањ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026080" y="22824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228600" y="885240"/>
            <a:ext cx="92091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Тригеминална васкуларна хипотеза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бнормална активација ТРИГЕМ-ВАСК. СИСТЕМ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слобађање вазоакт. пептида &gt; вазодилат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Кортикална презентација за бол (болни сигнал)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Аур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еуронска актив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Ослобађање пептид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Болни сигнал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Мигрен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6T17:05:33Z</dcterms:created>
  <dc:creator>Boban</dc:creator>
  <dc:description/>
  <dc:language>en-US</dc:language>
  <cp:lastModifiedBy>Win7</cp:lastModifiedBy>
  <dcterms:modified xsi:type="dcterms:W3CDTF">2014-08-27T07:14:09Z</dcterms:modified>
  <cp:revision>71</cp:revision>
  <dc:subject/>
  <dc:title>No Slide Title</dc:title>
</cp:coreProperties>
</file>