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8.wmf" ContentType="image/x-wmf"/>
  <Override PartName="/ppt/media/image26.jpeg" ContentType="image/jpeg"/>
  <Override PartName="/ppt/media/image13.jpeg" ContentType="image/jpeg"/>
  <Override PartName="/ppt/media/image4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17.jpeg" ContentType="image/jpe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7721-5819-44EE-BE5B-3FE860B93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86ED-42DD-4A23-8437-2E364B6BE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3DD-7A03-43CA-83A2-3598E2919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B77E-F923-4668-A139-87ED668D8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9D1-F439-4D32-8A9D-473820A7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6C30-3F50-4B21-BB09-3016257B0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949C-8B63-4075-9670-67CAF3095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2E4-65D7-414D-B587-161393DFB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D090-BAD1-410F-9A4C-FC143F86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1221-A8B8-4B46-BFC2-5E64AADDB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BFC0-AC54-42A7-BA0A-DABEC0259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4F17-0BE1-45A1-AB33-801F62E8A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B184-451F-4538-BF45-1A2ADCBE5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24BE-28DE-40E2-AF96-39D3CBAAD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C69C-778D-4457-B7BC-EB2B94FD0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5CE5-147A-46D5-A6CB-3B662B4E7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8B2C-D392-4302-A031-E547B958E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4061-EFAD-438E-B883-51573C003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8B5B-E4F4-48F2-89DD-15FC71165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8617-72E4-4848-A0F6-FEA9DB5A4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5FB7-2F5C-43EF-A831-9D39A9259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CEFF-B397-4DA8-AFED-5E07F436C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69E9-3E98-4825-BF8C-6E319A63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987F-334E-49B0-BA79-3C37B1D34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AA89-8C73-48F9-BE70-1363C994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0E5C-0F29-4A69-AC58-7C01ACB15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6891-7F7D-4D4B-8F83-A45B88E81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DC99-D8FD-426E-842E-AC93DD506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A82F-8F11-4489-9403-554868AE6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4E12-719C-42A4-8D16-85C6017DE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07D8-984C-4E4B-A3D6-C275A6047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3DBE-D8E8-4FB4-B96A-80D08833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3E28-6D3B-4F2D-A5D2-2C8795A8F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AA2F-A083-4CB5-A725-14CE49A6C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48DB-096A-4072-858C-A505196B0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B8BF-2199-42EC-A5CA-B17A229AE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5C5B-2473-4E64-9764-24F3265DF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8C91-7082-4186-82BF-A63E437E2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0657-FCB7-4B7F-816D-E0B63109A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A68A-3EA8-4CCF-B1EF-90EAA404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D74-3F4B-411E-BFFA-802AEE6FB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1ECE-A965-464A-806B-5187E381E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34B3-9B40-4F97-A51E-46BCD2144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E385-9E8F-4259-9FB0-8B0B7ADCF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09C-09F2-4908-A057-20031B13A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07F6-2DC9-4F3E-9C1F-07CC3631C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566E-EBA0-430B-BC53-0DCDAFADB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A8B8-0843-4A0D-A6FF-BA925401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EBBF-A0BB-47AA-BBF4-0E59F36D8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976C-0B41-42C8-8FEB-466E40DE8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F719-E120-416B-A4D6-EDA766B7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EF19-0A16-4599-B517-F87270D89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8173-6749-4002-9DF3-E8B89982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774-A2D8-4A6C-A45C-81028180D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22BA-942B-46B5-AEE5-B97BEC3C9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1F48-CC98-4FA4-8516-0BB98E339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1C89-4D88-4E0D-9AB7-93629BA1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F307-12E3-451C-895C-D6AA0559C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F2FE-A8DE-490A-B865-0F4D199A3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898-06F5-4245-809E-8E11BDAA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F019-299D-4F91-B6F0-D997D27EC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6944-A7A8-4229-88EC-9DFB61BB8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FC41-209A-4EB4-B5EC-A57A0C3E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4718-9FFA-4262-AF7A-C37BC430D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0773-F10C-49E3-90DF-F8B04486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5799-614E-46DF-AF43-4CE4A06D5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D48E-FF50-44A8-BBCA-394DB4135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6327-3B61-4D33-A303-EDB4F1749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457D-0C6C-4E26-9BA0-CF2B497F8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D745-4EEC-4260-928D-268804B9F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3DBF-34EB-4E6C-A8A3-6604CDCEB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3683-E8D0-4D3B-BA8D-3CCC93319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7627-AA89-4690-84DD-5B8AADAC1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5139-F90E-4CE5-9D52-3DC122708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62AD-543C-460E-BB08-AD624131C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0946-A1D8-4EDD-BF59-BDB993FC1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95DF-66D8-417E-88C1-73AD02D7E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4940-4214-4DF3-AA88-7E839E1C8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3BC9-D9A9-4C73-BA2A-9CC6BCCAB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9E7-8511-4A6E-B836-4F802545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767-A1B5-4389-989C-3995186A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37C-0C88-48F5-B2AF-592FC831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F57-BFF3-464F-B2D5-06ED868A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44A-D584-4703-AF60-46CB69F3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CB1-7955-4B22-9EDA-5879AEB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03C-8CD3-4A32-923B-DE805F96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9C3-B832-4493-A7FD-A9768C62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5BD-B65F-4A05-A563-F7463BE9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5D5-4AAC-44DD-8F9A-2C67207E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618-E9BC-4D31-AE75-46E9A1C0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7B9-9C6B-4D94-836C-BB6A536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2D13-B9D4-4611-9599-E08AC0771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oup 7" descr=""/>
          <p:cNvPicPr/>
          <p:nvPr/>
        </p:nvPicPr>
        <p:blipFill>
          <a:blip r:embed="rId1"/>
          <a:stretch/>
        </p:blipFill>
        <p:spPr>
          <a:xfrm>
            <a:off x="817560" y="2189160"/>
            <a:ext cx="7570800" cy="225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984320" y="-720"/>
            <a:ext cx="56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линички центар Крагујевац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09200" y="5150160"/>
            <a:ext cx="51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Проф. др Слободан Обрадовић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304920" y="114192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еца која могу да саопште тегобе најчешће наводе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2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главобољу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2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бол у врат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2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муку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2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107360" y="22860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АРАКТЕРИСТИЧНИ СИМПТОМ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И ЗНАЦ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62120" y="228600"/>
            <a:ext cx="77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ФУЛМИНАНТНИ ТОК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ИМПТОМАТ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52280" y="1127880"/>
            <a:ext cx="899172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ooper Bold YU"/>
              </a:rPr>
              <a:t>Доминирају симптоми и знац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ooper Bold YU"/>
              </a:rPr>
              <a:t>сепсе и шока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развој симптома траје неколико сат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(брзи пораст температуре, губитак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апетита, мука, повраћање, интракр. хипер.)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конвулзије су честе, а прогресивн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поремећај свести се брзо завршава комом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3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2120" y="228600"/>
            <a:ext cx="77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ФУЛМИНАНТНИ ТОК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ИМПТОМАТ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28600" y="1340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врат је укочен а фонтанела напет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(због едема може настати транстенторијал.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хернијација</a:t>
            </a:r>
            <a:r>
              <a:rPr b="0" lang="en-US" sz="3200" spc="-1" strike="noStrike">
                <a:solidFill>
                  <a:srgbClr val="000000"/>
                </a:solidFill>
                <a:latin typeface="Cooper Bold YU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брза и адекватна антибиотска и 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супортивна терапија су често неефикасне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04920" y="1523520"/>
            <a:ext cx="8686800" cy="58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Мање од 1% деце са бактеријским менинг. нема класичне симптоме, већ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нејасну фебрилност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поремећај понашања и 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петехијално крвављење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Петехије се најчешће јављају код менингококне сепсе, али се јављају и код инфекције пнеумококом и код вирусних инфекциј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91" name="Picture 6" descr="septicaemia baby with purple toes 1"/>
          <p:cNvPicPr/>
          <p:nvPr/>
        </p:nvPicPr>
        <p:blipFill>
          <a:blip r:embed="rId1"/>
          <a:stretch/>
        </p:blipFill>
        <p:spPr>
          <a:xfrm>
            <a:off x="6781680" y="2685960"/>
            <a:ext cx="2071800" cy="1762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2" name="AutoShape 7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62120" y="228600"/>
            <a:ext cx="77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ФУЛМИНАНТНИ ТОК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ИМПТОМАТ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3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62120" y="228600"/>
            <a:ext cx="77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ФУЛМИНАНТНИ ТОК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ФЕРЕНЦ. ДИЈАГНОЗ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062720"/>
            <a:ext cx="891540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Значајни параметри који указују на БМ су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тешко опште стање детета (знаци шока)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врискав, слаб плач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бледо-сива боја коже, дехидрациј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код фулминантног менингитиса број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леукоцита је нормалан или снижен, што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указује и на вирусни менингитис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ooper Bold YU"/>
              </a:rPr>
              <a:t>тешко стање детета је кључна разлика ов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oper Bold YU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ooper Bold YU"/>
              </a:rPr>
              <a:t>две болест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Group 6" descr=""/>
          <p:cNvPicPr/>
          <p:nvPr/>
        </p:nvPicPr>
        <p:blipFill>
          <a:blip r:embed="rId1"/>
          <a:stretch/>
        </p:blipFill>
        <p:spPr>
          <a:xfrm>
            <a:off x="219240" y="1968480"/>
            <a:ext cx="8948520" cy="1397160"/>
          </a:xfrm>
          <a:prstGeom prst="rect">
            <a:avLst/>
          </a:prstGeom>
          <a:ln w="0">
            <a:noFill/>
          </a:ln>
        </p:spPr>
      </p:pic>
      <p:pic>
        <p:nvPicPr>
          <p:cNvPr id="98" name="Group 9" descr=""/>
          <p:cNvPicPr/>
          <p:nvPr/>
        </p:nvPicPr>
        <p:blipFill>
          <a:blip r:embed="rId2"/>
          <a:stretch/>
        </p:blipFill>
        <p:spPr>
          <a:xfrm>
            <a:off x="208080" y="3645000"/>
            <a:ext cx="8796240" cy="1396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1575360" y="3962520"/>
            <a:ext cx="7227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ШТА ОТЕЖАВА РАНУ ДИЈАГНОЗУ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088640"/>
            <a:ext cx="9372600" cy="61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очетак болест је обично неспецифичан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имптоми инфекције горњих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респираторних путева,  уз губитак апетита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муку и повраћање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рисуство екстра-менингеалне инфекциј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(фарингитис, отитис) често завар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ада деца примају орално антибиотике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(декапитирани менингитис)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1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298880" y="228600"/>
            <a:ext cx="67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ШТА ОТЕЖАВА ПРАВОВРЕМЕН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У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80880" y="1081440"/>
            <a:ext cx="861084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Болест клинички пролази кроз три стадијума којима претходи продромални стадијум различите дужине, најчешће 2-3 недеље, а испољава се знацима опште инфекције и променом расположења било у смислу апатије или раздражљивости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Дијагноза се п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оставља на основу анамнестичких података о прележаној или активној туберкулози на неком органу, клиничке слике и прегледа ликвора.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4" name="AutoShape 4"/>
          <p:cNvSpPr/>
          <p:nvPr/>
        </p:nvSpPr>
        <p:spPr>
          <a:xfrm rot="5400000">
            <a:off x="3924360" y="-2933640"/>
            <a:ext cx="1371600" cy="7696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119240" y="228600"/>
            <a:ext cx="71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ШТА ОТЕЖАВА ПРАВОВРЕМЕН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У ТБЦ МЕНИНГИТИСА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106" name="Group 6" descr=""/>
          <p:cNvPicPr/>
          <p:nvPr/>
        </p:nvPicPr>
        <p:blipFill>
          <a:blip r:embed="rId1"/>
          <a:stretch/>
        </p:blipFill>
        <p:spPr>
          <a:xfrm>
            <a:off x="365040" y="5937120"/>
            <a:ext cx="857736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28600" y="1309320"/>
            <a:ext cx="891540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линички стадијум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и ТБЦ менингитиса трају по 7 дана: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oper Bold YU"/>
              </a:rPr>
              <a:t>СТАДИЈУМ I (</a:t>
            </a:r>
            <a:r>
              <a:rPr b="1" i="1" lang="sr-CS" sz="2400" spc="-1" strike="noStrike">
                <a:solidFill>
                  <a:srgbClr val="000000"/>
                </a:solidFill>
                <a:latin typeface="Cooper Bold YU"/>
              </a:rPr>
              <a:t>ОПШТИХ ТЕГОБА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лако повишена температур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главобољ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овраћањем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опстипациј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брадикардиј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бледило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страх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врат је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ограничено покретан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8" name="AutoShape 4"/>
          <p:cNvSpPr/>
          <p:nvPr/>
        </p:nvSpPr>
        <p:spPr>
          <a:xfrm rot="5400000">
            <a:off x="4304880" y="-3543120"/>
            <a:ext cx="762120" cy="8305560"/>
          </a:xfrm>
          <a:custGeom>
            <a:avLst/>
            <a:gdLst>
              <a:gd name="textAreaLeft" fmla="*/ 0 w 762120"/>
              <a:gd name="textAreaRight" fmla="*/ 762480 w 762120"/>
              <a:gd name="textAreaTop" fmla="*/ 0 h 8305560"/>
              <a:gd name="textAreaBottom" fmla="*/ 8305920 h 830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33520" y="2286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ЛИНИЧКА СЛИКА ТБЦ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4190400" y="4114800"/>
            <a:ext cx="4800600" cy="1143000"/>
          </a:xfrm>
          <a:custGeom>
            <a:avLst/>
            <a:gdLst>
              <a:gd name="textAreaLeft" fmla="*/ -360 w 4800600"/>
              <a:gd name="textAreaRight" fmla="*/ 4800600 w 48006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4" y="0"/>
                </a:lnTo>
                <a:lnTo>
                  <a:pt x="21600" y="10800"/>
                </a:lnTo>
                <a:lnTo>
                  <a:pt x="173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029200" y="4191120"/>
            <a:ext cx="3809880" cy="1008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правовремена дијагноз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(ЛП 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&gt; </a:t>
            </a: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туберкулостатици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добра прогноз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228600" y="1214280"/>
            <a:ext cx="89154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oper Bold YU"/>
              </a:rPr>
              <a:t>СТАДИЈУМ II </a:t>
            </a:r>
            <a:r>
              <a:rPr b="1" i="1" lang="sr-CS" sz="2400" spc="-1" strike="noStrike">
                <a:solidFill>
                  <a:srgbClr val="000000"/>
                </a:solidFill>
                <a:latin typeface="Cooper Bold YU"/>
              </a:rPr>
              <a:t>(МЕНИНГЕАЛНИ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овишена температур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главобољ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овраћањем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позитивни менингеални знац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базиларни знаци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крајем овог стадијума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анизокорија (неједнаке зенице),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трабизам,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тоза очних капак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диплопија (дупле слике).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ојава безвољног уринирањ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3" name="AutoShape 6"/>
          <p:cNvSpPr/>
          <p:nvPr/>
        </p:nvSpPr>
        <p:spPr>
          <a:xfrm flipH="1">
            <a:off x="5257800" y="2124000"/>
            <a:ext cx="3733920" cy="838440"/>
          </a:xfrm>
          <a:custGeom>
            <a:avLst/>
            <a:gdLst>
              <a:gd name="textAreaLeft" fmla="*/ 360 w 3733920"/>
              <a:gd name="textAreaRight" fmla="*/ 3734640 w 37339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410080" y="21240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још увек правовремено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(ЛП 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&gt; </a:t>
            </a: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туберкулостатици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5" name="AutoShape 8"/>
          <p:cNvSpPr/>
          <p:nvPr/>
        </p:nvSpPr>
        <p:spPr>
          <a:xfrm flipH="1">
            <a:off x="5257800" y="4867200"/>
            <a:ext cx="3803760" cy="838440"/>
          </a:xfrm>
          <a:custGeom>
            <a:avLst/>
            <a:gdLst>
              <a:gd name="textAreaLeft" fmla="*/ 360 w 3803760"/>
              <a:gd name="textAreaRight" fmla="*/ 3804480 w 38037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257800" y="49435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Касна дијагноз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(тешке секвеле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7" name="AutoShape 10"/>
          <p:cNvSpPr/>
          <p:nvPr/>
        </p:nvSpPr>
        <p:spPr>
          <a:xfrm rot="5400000">
            <a:off x="4304880" y="-3543120"/>
            <a:ext cx="762120" cy="8305560"/>
          </a:xfrm>
          <a:custGeom>
            <a:avLst/>
            <a:gdLst>
              <a:gd name="textAreaLeft" fmla="*/ 0 w 762120"/>
              <a:gd name="textAreaRight" fmla="*/ 762480 w 762120"/>
              <a:gd name="textAreaTop" fmla="*/ 0 h 8305560"/>
              <a:gd name="textAreaBottom" fmla="*/ 8305920 h 830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33520" y="2286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ЛИНИЧКА СЛИКА ТБЦ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33520" y="680400"/>
            <a:ext cx="83055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Менингитисни синдром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у деце је скуп клиничких знакова и симптома, које сваки педијатар треба добро да познаје, како би одмах хоспитализовао болесно дете и правовремено одрадио дијагностику (лумбалну пункцију) и применио адекватну терапију.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228600" y="1367280"/>
            <a:ext cx="89154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oper Bold YU"/>
              </a:rPr>
              <a:t>СТАДИЈУМ III </a:t>
            </a:r>
            <a:r>
              <a:rPr b="1" i="1" lang="sr-CS" sz="2400" spc="-1" strike="noStrike">
                <a:solidFill>
                  <a:srgbClr val="000000"/>
                </a:solidFill>
                <a:latin typeface="Cooper Bold YU"/>
              </a:rPr>
              <a:t>(паралитичко - енцефалитични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базиларни знаци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још израженији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оремећаји свести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раздражљивост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или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немир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летаргиј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апатиј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омноленциј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опор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ком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0" name="AutoShape 8"/>
          <p:cNvSpPr/>
          <p:nvPr/>
        </p:nvSpPr>
        <p:spPr>
          <a:xfrm flipH="1">
            <a:off x="5028480" y="4114800"/>
            <a:ext cx="3886200" cy="838080"/>
          </a:xfrm>
          <a:custGeom>
            <a:avLst/>
            <a:gdLst>
              <a:gd name="textAreaLeft" fmla="*/ -360 w 3886200"/>
              <a:gd name="textAreaRight" fmla="*/ 3886200 w 38862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5181480" y="41911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Касна дијагноз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(смрт или тешке секвеле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6172200"/>
            <a:ext cx="91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Cooper Bold YU"/>
              </a:rPr>
              <a:t>НЕПРЕПОЗНАТ И НЕЛЕЧЕН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oper Bold YU"/>
              </a:rPr>
              <a:t>&gt;</a:t>
            </a: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Cooper Bold YU"/>
              </a:rPr>
              <a:t> СМРТ ЗА 3 НЕДЕЉ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3" name="AutoShape 11"/>
          <p:cNvSpPr/>
          <p:nvPr/>
        </p:nvSpPr>
        <p:spPr>
          <a:xfrm rot="5400000">
            <a:off x="4304880" y="-3543120"/>
            <a:ext cx="762120" cy="8305560"/>
          </a:xfrm>
          <a:custGeom>
            <a:avLst/>
            <a:gdLst>
              <a:gd name="textAreaLeft" fmla="*/ 0 w 762120"/>
              <a:gd name="textAreaRight" fmla="*/ 762480 w 762120"/>
              <a:gd name="textAreaTop" fmla="*/ 0 h 8305560"/>
              <a:gd name="textAreaBottom" fmla="*/ 8305920 h 830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533520" y="2286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ЛИНИЧКА СЛИКА ТБЦ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0" y="807120"/>
            <a:ext cx="93726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уколико је дете млађе симптоми с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неспецифичнији (температура, повраћање)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од одојчади је менингеални синдром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често је одсутан, а код 50% је фонтанел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напета.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ooper Bold YU"/>
              </a:rPr>
              <a:t>менингитис се увек разматра када с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ooper Bold YU"/>
              </a:rPr>
              <a:t>прегледом не може објаснити тешко стањ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ooper Bold YU"/>
              </a:rPr>
              <a:t>детета или када мајка каже да дете ниј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ooper Bold YU"/>
              </a:rPr>
              <a:t>добро (апатично, плачљиво, без апетита).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6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298880" y="228600"/>
            <a:ext cx="67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ШТА ОТЕЖАВА ПРАВОВРЕМЕН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У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2"/>
          <p:cNvSpPr/>
          <p:nvPr/>
        </p:nvSpPr>
        <p:spPr>
          <a:xfrm>
            <a:off x="838080" y="1600200"/>
            <a:ext cx="73915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Анамнез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Неуропедијатријски преглед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Лабораторијске анализ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ЛУМБАЛНА ПУНКЦ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Неурорадиолошко испитивањ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Неурофизиолошко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испитивањ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380880" y="3962520"/>
            <a:ext cx="655344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0" name="AutoShape 1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А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А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28600" y="1248840"/>
            <a:ext cx="8915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Општи педијатријски преглед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стање свести  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фебрилност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промене по кож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положај при преглед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напетост фонтанеле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135" name="Picture 6" descr="neonatus u ekstenziji - sepsa"/>
          <p:cNvPicPr/>
          <p:nvPr/>
        </p:nvPicPr>
        <p:blipFill>
          <a:blip r:embed="rId1"/>
          <a:stretch/>
        </p:blipFill>
        <p:spPr>
          <a:xfrm>
            <a:off x="5486400" y="2538360"/>
            <a:ext cx="2819520" cy="16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7" descr="0"/>
          <p:cNvPicPr/>
          <p:nvPr/>
        </p:nvPicPr>
        <p:blipFill>
          <a:blip r:embed="rId2"/>
          <a:stretch/>
        </p:blipFill>
        <p:spPr>
          <a:xfrm>
            <a:off x="1371600" y="4952880"/>
            <a:ext cx="213372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9" descr="napeta fontanela"/>
          <p:cNvPicPr/>
          <p:nvPr/>
        </p:nvPicPr>
        <p:blipFill>
          <a:blip r:embed="rId3"/>
          <a:stretch/>
        </p:blipFill>
        <p:spPr>
          <a:xfrm>
            <a:off x="5181480" y="4923000"/>
            <a:ext cx="3149640" cy="157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AutoShape 10"/>
          <p:cNvSpPr/>
          <p:nvPr/>
        </p:nvSpPr>
        <p:spPr>
          <a:xfrm>
            <a:off x="3962520" y="568476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366160" y="426708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oper Bold YU"/>
              </a:rPr>
              <a:t>Положај неонатуса у сепси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715000" y="64911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oper Bold YU"/>
              </a:rPr>
              <a:t>Напета фонтанела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3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А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981080" y="1649160"/>
            <a:ext cx="6324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Неуролошки преглед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менингеални знаци:  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укочен врат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Кернигов знак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знак Бружинског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Амосов знак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4"/>
          <p:cNvSpPr/>
          <p:nvPr/>
        </p:nvSpPr>
        <p:spPr>
          <a:xfrm rot="5400000">
            <a:off x="4191120" y="-3429000"/>
            <a:ext cx="914400" cy="8229600"/>
          </a:xfrm>
          <a:custGeom>
            <a:avLst/>
            <a:gdLst>
              <a:gd name="textAreaLeft" fmla="*/ 0 w 914400"/>
              <a:gd name="textAreaRight" fmla="*/ 914760 w 914400"/>
              <a:gd name="textAreaTop" fmla="*/ 0 h 8229600"/>
              <a:gd name="textAreaBottom" fmla="*/ 8229960 h 822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57200" y="228600"/>
            <a:ext cx="836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АДА УРАДИТИ ЛУМБАЛНУ ПУНКЦИЈУ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85800" y="14479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олизија анамнезе и прегледа 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ретпостављеном дијагнозом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Фебрилно дете има необјашњив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оремећај понашања и свест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Фебрилне конвулзије код одојчета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04920" y="5715000"/>
            <a:ext cx="8686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КОД СВАКЕ СУМЊЕ НА ПУРУЛЕНТНИ МЕНИНГИТИС УРАДИТИ ЛУМБАЛНУ ПУНКЦИЈУ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3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А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57200" y="176904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ooper Bold YU"/>
              </a:rPr>
              <a:t>Лумбална пункција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је најзначајн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стичка метода за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потврд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менингитиса, као и за диференцијациј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врсте инфекције (вирусни, бактеријски,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туберкул.)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Понавља се за 24-48 сати као и 7. дана од почетка терапиј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3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А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831960"/>
            <a:ext cx="91440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онтраиндикације за лумб. пункцију су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овишен интракр. притисак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(реална опасност хернијације је 4,3-6%)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брзи развој коме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фокални неуролошки знац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застојна папил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осле конвулзија ЛП се одлаже 30 мин.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457200" y="1981080"/>
            <a:ext cx="784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3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А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33520" y="990360"/>
            <a:ext cx="891540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Ликвор се прегледа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ректним препаратом (микроскоп)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биохемијск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микробиолошк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еролошк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457200" y="1276200"/>
            <a:ext cx="891540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Идентификација узрочника се врши прегледом препарата бојеног по Грам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Изолацијом из културе ликвор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римењују се и тестови за брзу детекцију бактеријског антигена 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Cooper Bold YU"/>
              </a:rPr>
              <a:t>S.pneumoniae,</a:t>
            </a:r>
            <a:r>
              <a:rPr b="0" i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ooper Bold YU"/>
              </a:rPr>
              <a:t>Hib, N. Menin</a:t>
            </a:r>
            <a:r>
              <a:rPr b="0" i="1" lang="sr-CS" sz="3200" spc="-1" strike="noStrike">
                <a:solidFill>
                  <a:srgbClr val="000000"/>
                </a:solidFill>
                <a:latin typeface="Cooper Bold YU"/>
              </a:rPr>
              <a:t>.)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- латекс аглутинација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- ЕЛИС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- ПЦР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9" name="AutoShape 10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А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85800" y="16765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УЧЕСТАЛОСТ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 :  0,1-10 / 1.000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ЉУДИ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70%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У ДЕЦА ДО 5. ГОДИНЕ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3" name="AutoShape 6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62120" y="303840"/>
            <a:ext cx="7772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УРУЛЕНТНИ МЕНИНГИТИС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3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А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47744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Од великог је значаја су и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хемокултур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едиментација еритроцит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леукоцитоз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вредности ЦРП-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228600" y="1171800"/>
            <a:ext cx="89154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Неурорадиолошка испитивања су од малог значаја у дијагнози менингитиса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ЦТ, МР или УЗ  главе индиковани су код: погоршања интракранијалне хипертензије или фокалних дефицита (компликације)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5" name="AutoShape 6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ЈАГНОЗА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oup 6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92512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1981080" y="1321560"/>
            <a:ext cx="5105520" cy="60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Септикемиј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Фебрилне конвулзиј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Серозни менингитис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ТБЦ / гљивични менингитис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Мождани апсцес 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Траума глав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Субдурални хематом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Метаболички поремећај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Интоксикациј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САХ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Неопластични менингитис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304920" y="135504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леме се постављају најчешће у раном препознавању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бактеријског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вирусног 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туберкулозног менингитиса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оји имају потпуно различит терапијски приступ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а свако одлагање правовремене терапије може имати за последицу тешке компликације или фаталан исход.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70" name="AutoShape 7"/>
          <p:cNvSpPr/>
          <p:nvPr/>
        </p:nvSpPr>
        <p:spPr>
          <a:xfrm rot="5400000">
            <a:off x="3885840" y="-3276720"/>
            <a:ext cx="1143000" cy="76964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440"/>
              <a:gd name="textAreaBottom" fmla="*/ 7696800 h 769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216800" y="152280"/>
            <a:ext cx="67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7"/>
          <p:cNvGrpSpPr/>
          <p:nvPr/>
        </p:nvGrpSpPr>
        <p:grpSpPr>
          <a:xfrm>
            <a:off x="304920" y="1096920"/>
            <a:ext cx="2819160" cy="5761080"/>
            <a:chOff x="304920" y="1096920"/>
            <a:chExt cx="2819160" cy="5761080"/>
          </a:xfrm>
        </p:grpSpPr>
        <p:sp>
          <p:nvSpPr>
            <p:cNvPr id="173" name="Rectangle 8"/>
            <p:cNvSpPr/>
            <p:nvPr/>
          </p:nvSpPr>
          <p:spPr>
            <a:xfrm>
              <a:off x="304920" y="1143000"/>
              <a:ext cx="2819160" cy="5715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pic>
          <p:nvPicPr>
            <p:cNvPr id="174" name="Picture 9" descr="40 GN spoljna strana mozga"/>
            <p:cNvPicPr/>
            <p:nvPr/>
          </p:nvPicPr>
          <p:blipFill>
            <a:blip r:embed="rId1"/>
            <a:stretch/>
          </p:blipFill>
          <p:spPr>
            <a:xfrm>
              <a:off x="380880" y="1752480"/>
              <a:ext cx="2667240" cy="1749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5" name="Text Box 10"/>
            <p:cNvSpPr/>
            <p:nvPr/>
          </p:nvSpPr>
          <p:spPr>
            <a:xfrm>
              <a:off x="1040760" y="1096920"/>
              <a:ext cx="15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CS" sz="2400" spc="-1" strike="noStrike">
                  <a:solidFill>
                    <a:srgbClr val="000000"/>
                  </a:solidFill>
                  <a:latin typeface="Cooper Bold YU"/>
                  <a:ea typeface="Times New Roman"/>
                </a:rPr>
                <a:t>ВИРУСНИ</a:t>
              </a:r>
              <a:endParaRPr b="0" lang="en-US" sz="24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176" name="Text Box 11"/>
            <p:cNvSpPr/>
            <p:nvPr/>
          </p:nvSpPr>
          <p:spPr>
            <a:xfrm>
              <a:off x="392760" y="3811680"/>
              <a:ext cx="2611440" cy="28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oper Bold YU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квор бистар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теинорахија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.5 do 1.0g/l) 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икорахиј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м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50-66%)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ћелиј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мфоцити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 1000 u mm</a:t>
              </a:r>
              <a:r>
                <a:rPr b="0" lang="sr-Latn-C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843480" y="350676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ЕРОЗНИ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</p:grpSp>
      <p:grpSp>
        <p:nvGrpSpPr>
          <p:cNvPr id="178" name="Group 13"/>
          <p:cNvGrpSpPr/>
          <p:nvPr/>
        </p:nvGrpSpPr>
        <p:grpSpPr>
          <a:xfrm>
            <a:off x="3124080" y="1096920"/>
            <a:ext cx="2819520" cy="5761080"/>
            <a:chOff x="3124080" y="1096920"/>
            <a:chExt cx="2819520" cy="5761080"/>
          </a:xfrm>
        </p:grpSpPr>
        <p:sp>
          <p:nvSpPr>
            <p:cNvPr id="179" name="Rectangle 14"/>
            <p:cNvSpPr/>
            <p:nvPr/>
          </p:nvSpPr>
          <p:spPr>
            <a:xfrm>
              <a:off x="3124080" y="1143000"/>
              <a:ext cx="2819520" cy="5715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grpSp>
          <p:nvGrpSpPr>
            <p:cNvPr id="180" name="Group 15"/>
            <p:cNvGrpSpPr/>
            <p:nvPr/>
          </p:nvGrpSpPr>
          <p:grpSpPr>
            <a:xfrm>
              <a:off x="3273840" y="1096920"/>
              <a:ext cx="2593440" cy="5515200"/>
              <a:chOff x="3273840" y="1096920"/>
              <a:chExt cx="2593440" cy="5515200"/>
            </a:xfrm>
          </p:grpSpPr>
          <p:pic>
            <p:nvPicPr>
              <p:cNvPr id="181" name="Picture 16" descr="Purulentni mening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1752480"/>
                <a:ext cx="2590560" cy="1787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82" name="Text Box 17"/>
              <p:cNvSpPr/>
              <p:nvPr/>
            </p:nvSpPr>
            <p:spPr>
              <a:xfrm>
                <a:off x="3439080" y="1096920"/>
                <a:ext cx="24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C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БАКТЕРИЈСКИ</a:t>
                </a:r>
                <a:endParaRPr b="0" lang="en-US" sz="2400" spc="-1" strike="noStrike">
                  <a:solidFill>
                    <a:srgbClr val="000000"/>
                  </a:solidFill>
                  <a:latin typeface="Cooper Bold YU"/>
                </a:endParaRPr>
              </a:p>
            </p:txBody>
          </p:sp>
          <p:sp>
            <p:nvSpPr>
              <p:cNvPr id="183" name="Text Box 18"/>
              <p:cNvSpPr/>
              <p:nvPr/>
            </p:nvSpPr>
            <p:spPr>
              <a:xfrm>
                <a:off x="3273840" y="3835440"/>
                <a:ext cx="2549160" cy="27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oper Bold YU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иквор мутан</a:t>
                </a: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протеинорахија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 - 5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g/l) 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0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гликорахија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нижен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40%)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ћелиј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&g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лимор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do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00 u mm</a:t>
                </a:r>
                <a:r>
                  <a:rPr b="0" lang="sr-Latn-C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</p:txBody>
          </p:sp>
          <p:sp>
            <p:nvSpPr>
              <p:cNvPr id="184" name="Text Box 19"/>
              <p:cNvSpPr/>
              <p:nvPr/>
            </p:nvSpPr>
            <p:spPr>
              <a:xfrm>
                <a:off x="3585600" y="3506760"/>
                <a:ext cx="190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УРУЛЕНТНИ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</p:txBody>
          </p:sp>
        </p:grpSp>
      </p:grpSp>
      <p:grpSp>
        <p:nvGrpSpPr>
          <p:cNvPr id="185" name="Group 20"/>
          <p:cNvGrpSpPr/>
          <p:nvPr/>
        </p:nvGrpSpPr>
        <p:grpSpPr>
          <a:xfrm>
            <a:off x="5943600" y="1096920"/>
            <a:ext cx="2986560" cy="5761080"/>
            <a:chOff x="5943600" y="1096920"/>
            <a:chExt cx="2986560" cy="5761080"/>
          </a:xfrm>
        </p:grpSpPr>
        <p:sp>
          <p:nvSpPr>
            <p:cNvPr id="186" name="Rectangle 21"/>
            <p:cNvSpPr/>
            <p:nvPr/>
          </p:nvSpPr>
          <p:spPr>
            <a:xfrm>
              <a:off x="5943600" y="1143000"/>
              <a:ext cx="2819520" cy="5715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grpSp>
          <p:nvGrpSpPr>
            <p:cNvPr id="187" name="Group 22"/>
            <p:cNvGrpSpPr/>
            <p:nvPr/>
          </p:nvGrpSpPr>
          <p:grpSpPr>
            <a:xfrm>
              <a:off x="6095880" y="1096920"/>
              <a:ext cx="2834280" cy="5607000"/>
              <a:chOff x="6095880" y="1096920"/>
              <a:chExt cx="2834280" cy="5607000"/>
            </a:xfrm>
          </p:grpSpPr>
          <p:pic>
            <p:nvPicPr>
              <p:cNvPr id="188" name="Picture 23" descr="TBC menin bazil"/>
              <p:cNvPicPr/>
              <p:nvPr/>
            </p:nvPicPr>
            <p:blipFill>
              <a:blip r:embed="rId3"/>
              <a:stretch/>
            </p:blipFill>
            <p:spPr>
              <a:xfrm>
                <a:off x="6095880" y="1752480"/>
                <a:ext cx="2590920" cy="179244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sp>
            <p:nvSpPr>
              <p:cNvPr id="189" name="Text Box 24"/>
              <p:cNvSpPr/>
              <p:nvPr/>
            </p:nvSpPr>
            <p:spPr>
              <a:xfrm>
                <a:off x="6260760" y="1096920"/>
                <a:ext cx="266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C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УБЕРКУЛОЗНИ</a:t>
                </a:r>
                <a:endParaRPr b="0" lang="en-US" sz="2400" spc="-1" strike="noStrike">
                  <a:solidFill>
                    <a:srgbClr val="000000"/>
                  </a:solidFill>
                  <a:latin typeface="Cooper Bold YU"/>
                </a:endParaRPr>
              </a:p>
            </p:txBody>
          </p:sp>
          <p:sp>
            <p:nvSpPr>
              <p:cNvPr id="190" name="Text Box 25"/>
              <p:cNvSpPr/>
              <p:nvPr/>
            </p:nvSpPr>
            <p:spPr>
              <a:xfrm>
                <a:off x="6107760" y="3835440"/>
                <a:ext cx="2611440" cy="28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oper Bold YU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ликвор бистар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</a:rPr>
                  <a:t>протеинорахија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0.5 do 1.0g/l) 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ликорахија</a:t>
                </a: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нижен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40%)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30000"/>
                  </a:lnSpc>
                  <a:buClr>
                    <a:srgbClr val="ff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ћелиј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sr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имфоцити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o 1000 u mm</a:t>
                </a:r>
                <a:r>
                  <a:rPr b="0" lang="sr-Latn-C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</p:txBody>
          </p:sp>
          <p:sp>
            <p:nvSpPr>
              <p:cNvPr id="191" name="Text Box 26"/>
              <p:cNvSpPr/>
              <p:nvPr/>
            </p:nvSpPr>
            <p:spPr>
              <a:xfrm>
                <a:off x="6552720" y="3506760"/>
                <a:ext cx="178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БАЗИЛАРНИ</a:t>
                </a:r>
                <a:endParaRPr b="0" lang="en-US" sz="2000" spc="-1" strike="noStrike">
                  <a:solidFill>
                    <a:srgbClr val="000000"/>
                  </a:solidFill>
                  <a:latin typeface="Cooper Bold YU"/>
                </a:endParaRPr>
              </a:p>
            </p:txBody>
          </p:sp>
        </p:grpSp>
      </p:grpSp>
      <p:sp>
        <p:nvSpPr>
          <p:cNvPr id="192" name="AutoShape 27"/>
          <p:cNvSpPr/>
          <p:nvPr/>
        </p:nvSpPr>
        <p:spPr>
          <a:xfrm rot="5400000">
            <a:off x="3885840" y="-3429000"/>
            <a:ext cx="1143000" cy="76964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440"/>
              <a:gd name="textAreaBottom" fmla="*/ 7696800 h 769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1216800" y="0"/>
            <a:ext cx="67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28600" y="766800"/>
            <a:ext cx="89154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ЛИКВОР ЈЕ ЗАМУЋЕН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протеинорахија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gt; 0.5g/l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(до 5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g/l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гликорахија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lt; 2.4mmola/l (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ликвор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: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серум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&lt; 0.31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леукоцити (полиморфонук.)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gt; 1000  &lt; 10000/ml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бојење по Граму позитивно 70 – 90%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ЦРП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gt;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100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µ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g/ml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латекс аглутинац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95" name="AutoShape 5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АНАЛИЗА ЛИКВОРА КОД ГНОЈНОГ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380880" y="873360"/>
            <a:ext cx="89154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ЛИКВОР ЈЕ БИСТАР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протеинорахија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0.5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до 1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g/l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гликорахија је нормалн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100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1000 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ћелија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ml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(предом. лимфоцити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у почетку болести у ¼ се могу наћи и полиморфонуклеари (око 10%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онтролна пункција за 24-4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oper Bold YU"/>
              </a:rPr>
              <a:t>h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покаже увек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предоминацију лимфоцит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98" name="AutoShape 5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АНАЛИЗА ЛИКВОРА КОД СЕРОЗНОГ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4419720" y="510552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4038480" y="510552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609480" y="1023840"/>
            <a:ext cx="8915400" cy="62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ЛИКВОР ЈЕ БИСТАР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протеинорахија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0.5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до 1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g/l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гликорахија је снижен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(мање од 40% гликемије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100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1000 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ћелија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ml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(предом. лимфоцити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бојење препарата по Цил-Нилзен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засејавање на подлогу (Левенштајн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ЕЛИС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03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267080" y="441972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62120" y="30492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АНАЛИЗА ЛИКВОРА КОД ТУБЕРКУЛ.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6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ВИРУСНИ ИЛИ ДЕКАПИТИР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АНИ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МЕНИНГИТИС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0" y="2286000"/>
            <a:ext cx="93726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cc3300"/>
              </a:buClr>
              <a:buSzPct val="120000"/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30 - 50%</a:t>
            </a:r>
            <a:r>
              <a:rPr b="0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менингитиса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непознате етиологиј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3300"/>
              </a:buClr>
              <a:buSzPct val="120000"/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40-80%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деце прима антибиотик у продромалној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фази болест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cc3300"/>
              </a:buClr>
              <a:buSzPct val="120000"/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ЛП гранични налаз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плеоцитоза до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1000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ћел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ml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Cooper Bold YU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cc3300"/>
              </a:buClr>
              <a:buSzPct val="120000"/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Терапија за менингитис непознате етиологије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08" name="Rectangle 32"/>
          <p:cNvSpPr/>
          <p:nvPr/>
        </p:nvSpPr>
        <p:spPr>
          <a:xfrm>
            <a:off x="380880" y="5867280"/>
            <a:ext cx="8458200" cy="609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09" name="AutoShape 33"/>
          <p:cNvSpPr/>
          <p:nvPr/>
        </p:nvSpPr>
        <p:spPr>
          <a:xfrm>
            <a:off x="4114800" y="2819520"/>
            <a:ext cx="11430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10" name="AutoShape 34"/>
          <p:cNvSpPr/>
          <p:nvPr/>
        </p:nvSpPr>
        <p:spPr>
          <a:xfrm>
            <a:off x="4038480" y="5181480"/>
            <a:ext cx="11430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11" name="AutoShape 35"/>
          <p:cNvSpPr/>
          <p:nvPr/>
        </p:nvSpPr>
        <p:spPr>
          <a:xfrm>
            <a:off x="4038480" y="4114800"/>
            <a:ext cx="11430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12" name="AutoShape 36"/>
          <p:cNvSpPr/>
          <p:nvPr/>
        </p:nvSpPr>
        <p:spPr>
          <a:xfrm rot="5400000">
            <a:off x="3962160" y="-32763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1216800" y="228600"/>
            <a:ext cx="67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533520" y="1600200"/>
            <a:ext cx="8002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Антибиотици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ooper Bold YU"/>
              </a:rPr>
              <a:t>– </a:t>
            </a: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брзо и у адекватној дози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Заштита можданог метаболизм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онтрола интракран. притиска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онтрола конвулз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Одржавање хомеостазе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/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нормоволемије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   </a:t>
            </a: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(хиперволемија</a:t>
            </a:r>
            <a:r>
              <a:rPr b="1" lang="sr-Latn-CS" sz="2000" spc="-1" strike="noStrike">
                <a:solidFill>
                  <a:srgbClr val="000000"/>
                </a:solidFill>
                <a:latin typeface="Cooper Bold YU"/>
              </a:rPr>
              <a:t> – SIADH</a:t>
            </a: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  - хиповолемија - дехидрација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онтрола хиперпирексиј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16" name="AutoShape 1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1382760" y="228600"/>
            <a:ext cx="65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РИНЦИПИ ТЕРАПИЈЕ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УРУЛЕНТНОГ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Hemophilus influenze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Neisseria meningitidis          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oper Bold YU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Streptoc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cus pneumoniae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315200" y="3505320"/>
            <a:ext cx="100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omic Sans MS"/>
              </a:rPr>
              <a:t>80%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6248520" y="2362320"/>
            <a:ext cx="609480" cy="3124080"/>
          </a:xfrm>
          <a:custGeom>
            <a:avLst/>
            <a:gdLst>
              <a:gd name="textAreaLeft" fmla="*/ 0 w 609480"/>
              <a:gd name="textAreaRight" fmla="*/ 219960 w 6094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8" name="AutoShape 12"/>
          <p:cNvSpPr/>
          <p:nvPr/>
        </p:nvSpPr>
        <p:spPr>
          <a:xfrm rot="5400000">
            <a:off x="3809880" y="-3047760"/>
            <a:ext cx="1600200" cy="76960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-1080"/>
            <a:ext cx="71625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НАЈЧЕШЋИ УЗРОЧНИЦИ ПУРУЛЕНТНОГ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280" y="2133720"/>
          <a:ext cx="8839440" cy="4427280"/>
        </p:xfrm>
        <a:graphic>
          <a:graphicData uri="http://schemas.openxmlformats.org/drawingml/2006/table">
            <a:tbl>
              <a:tblPr/>
              <a:tblGrid>
                <a:gridCol w="2886120"/>
                <a:gridCol w="2928960"/>
                <a:gridCol w="302436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   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У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ЛЕК ИЗБО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АЛТЕРНАТИ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Одојчад и деца до 4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Ceftriaxon /Cefotax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Vankomic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Ceftriaxon /Cefotax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Rifampic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86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Деца 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5 – 15 год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Ceftriaxon /Cefotax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Vankomic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Ampicill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ooper Bold YU"/>
                        </a:rPr>
                        <a:t>Chloramfenik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0" name="AutoShape 94"/>
          <p:cNvCxnSpPr/>
          <p:nvPr/>
        </p:nvCxnSpPr>
        <p:spPr>
          <a:xfrm>
            <a:off x="1980720" y="7467480"/>
            <a:ext cx="1296360" cy="76680"/>
          </a:xfrm>
          <a:prstGeom prst="straightConnector1">
            <a:avLst/>
          </a:prstGeom>
          <a:ln w="0">
            <a:noFill/>
          </a:ln>
        </p:spPr>
      </p:cxnSp>
      <p:sp>
        <p:nvSpPr>
          <p:cNvPr id="221" name="AutoShape 97"/>
          <p:cNvSpPr/>
          <p:nvPr/>
        </p:nvSpPr>
        <p:spPr>
          <a:xfrm>
            <a:off x="2895480" y="2133720"/>
            <a:ext cx="533520" cy="4419360"/>
          </a:xfrm>
          <a:custGeom>
            <a:avLst/>
            <a:gdLst>
              <a:gd name="textAreaLeft" fmla="*/ 0 w 533520"/>
              <a:gd name="textAreaRight" fmla="*/ 533880 w 5335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0"/>
                </a:lnTo>
                <a:lnTo>
                  <a:pt x="21600" y="10800"/>
                </a:lnTo>
                <a:lnTo>
                  <a:pt x="5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22" name="AutoShape 98"/>
          <p:cNvSpPr/>
          <p:nvPr/>
        </p:nvSpPr>
        <p:spPr>
          <a:xfrm rot="5400000">
            <a:off x="3809880" y="-3047760"/>
            <a:ext cx="1600200" cy="76960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23" name="Rectangle 99"/>
          <p:cNvSpPr/>
          <p:nvPr/>
        </p:nvSpPr>
        <p:spPr>
          <a:xfrm>
            <a:off x="1157760" y="0"/>
            <a:ext cx="667764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ИНИЦИЈАЛНА ТЕРАПИЈ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УРУЛЕНТНОГ МЕНИНГИТИСА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НЕПОЗНАТЕ ЕТИОЛОГИЈ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380880" y="213372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H. influenze                    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7-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10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S. pneumoniae                10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-14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N. meningitidis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5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-7  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5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ана од нормализације температур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5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ана од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терилизације ликвора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–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онтролна ЛП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26" name="AutoShape 27"/>
          <p:cNvSpPr/>
          <p:nvPr/>
        </p:nvSpPr>
        <p:spPr>
          <a:xfrm rot="5400000">
            <a:off x="4038480" y="-32763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27" name="Rectangle 26"/>
          <p:cNvSpPr/>
          <p:nvPr/>
        </p:nvSpPr>
        <p:spPr>
          <a:xfrm>
            <a:off x="1275480" y="380880"/>
            <a:ext cx="65725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УЖИНА ТРАЈАЊА ТЕРАПИЈЕ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УРУЛЕНТНОГ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52280" y="1600200"/>
            <a:ext cx="899172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Одојчад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Трајање болести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gt;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3 дана пре почетка терапиј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Више од 107 микроорганизама по мл./ ликвор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СИАДХ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Фокални неуролошки знац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Одржавање конвулзија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gt;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3дана од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почетка терапиј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4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Granoff 1982.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30" name="AutoShape 9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1201320" y="380880"/>
            <a:ext cx="67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ЛОШИ ПРОГНОСТИЧКИ ЗНАЦ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3"/>
          <p:cNvSpPr/>
          <p:nvPr/>
        </p:nvSpPr>
        <p:spPr>
          <a:xfrm rot="5400000">
            <a:off x="4152600" y="-3619440"/>
            <a:ext cx="1066680" cy="8305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05560"/>
              <a:gd name="textAreaBottom" fmla="*/ 8305920 h 830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85800" y="152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МОРТАЛИТЕТ ТОКОМ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332800" y="551376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мртност према узрочнику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graphicFrame>
        <p:nvGraphicFramePr>
          <p:cNvPr id="235" name="Object 12"/>
          <p:cNvGraphicFramePr/>
          <p:nvPr/>
        </p:nvGraphicFramePr>
        <p:xfrm>
          <a:off x="2438280" y="1828800"/>
          <a:ext cx="4419720" cy="31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4419720" cy="3164040"/>
                  </a:xfrm>
                  <a:prstGeom prst="rect">
                    <a:avLst/>
                  </a:prstGeom>
                  <a:ln cap="sq"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7" name="Rectangle 13"/>
          <p:cNvSpPr/>
          <p:nvPr/>
        </p:nvSpPr>
        <p:spPr>
          <a:xfrm>
            <a:off x="3505320" y="3962520"/>
            <a:ext cx="185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old YU"/>
              </a:rPr>
              <a:t>Strept. pneumon.</a:t>
            </a:r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3645720" y="312408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old YU"/>
              </a:rPr>
              <a:t>Haemophilus inf.</a:t>
            </a:r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3628440" y="236232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old YU"/>
              </a:rPr>
              <a:t>Naiseria mening.</a:t>
            </a:r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5717880" y="23623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old YU"/>
              </a:rPr>
              <a:t>3%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5717880" y="312408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old YU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5648400" y="38862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old YU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3"/>
          <p:cNvSpPr/>
          <p:nvPr/>
        </p:nvSpPr>
        <p:spPr>
          <a:xfrm rot="5400000">
            <a:off x="4152600" y="-3619440"/>
            <a:ext cx="1066680" cy="8305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05560"/>
              <a:gd name="textAreaBottom" fmla="*/ 8305920 h 830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066680" y="152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ЕКВЕЛЕ НАКОН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504440" y="5453640"/>
            <a:ext cx="62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Оштећење слуха након менингитиса</a:t>
            </a:r>
            <a:r>
              <a:rPr b="0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graphicFrame>
        <p:nvGraphicFramePr>
          <p:cNvPr id="246" name="Object 13"/>
          <p:cNvGraphicFramePr/>
          <p:nvPr/>
        </p:nvGraphicFramePr>
        <p:xfrm>
          <a:off x="2286000" y="1752480"/>
          <a:ext cx="4495680" cy="32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52480"/>
                    <a:ext cx="449568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4"/>
          <p:cNvSpPr/>
          <p:nvPr/>
        </p:nvSpPr>
        <p:spPr>
          <a:xfrm>
            <a:off x="3809880" y="388620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old YU"/>
              </a:rPr>
              <a:t>Strept. pneumon.</a:t>
            </a:r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3950640" y="312408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old YU"/>
              </a:rPr>
              <a:t>Haemophilus inf.</a:t>
            </a:r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3782160" y="228600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old YU"/>
              </a:rPr>
              <a:t>Naiseria mening</a:t>
            </a:r>
            <a:r>
              <a:rPr b="0" lang="en-US" sz="1400" spc="-1" strike="noStrike">
                <a:solidFill>
                  <a:srgbClr val="000000"/>
                </a:solidFill>
                <a:latin typeface="Cooper Bold YU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5725800" y="2209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old YU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5715000" y="304812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old YU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5656320" y="38862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old YU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3"/>
          <p:cNvSpPr/>
          <p:nvPr/>
        </p:nvSpPr>
        <p:spPr>
          <a:xfrm rot="5400000">
            <a:off x="4152600" y="-3619440"/>
            <a:ext cx="1066680" cy="8305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05560"/>
              <a:gd name="textAreaBottom" fmla="*/ 8305920 h 830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066680" y="152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СЕКВЕЛЕ НАКОН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МЕНИНГ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612720" y="871200"/>
            <a:ext cx="8531280" cy="62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Неуролошке секвеле се дуготрајно прате и могу се ублажити: 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5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рехабилитацијом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5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психолошком подршком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5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помагањем родитељим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Group 3" descr=""/>
          <p:cNvPicPr/>
          <p:nvPr/>
        </p:nvPicPr>
        <p:blipFill>
          <a:blip r:embed="rId1"/>
          <a:stretch/>
        </p:blipFill>
        <p:spPr>
          <a:xfrm>
            <a:off x="1427040" y="2189160"/>
            <a:ext cx="6570720" cy="22543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1984320" y="-720"/>
            <a:ext cx="56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линички центар Крагујевац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409200" y="5150160"/>
            <a:ext cx="51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Проф. др Слободан Обрадовић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533520" y="2897640"/>
            <a:ext cx="83055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87880" y="1334880"/>
            <a:ext cx="784188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је запаљење можданог паренхима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које најчешће изазивају вируси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оје се клинички манифестује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наглим почетком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прогресивним током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честим комликацијам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високим леталитетом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каснијим секвелам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62" name="AutoShape 5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762120" y="303840"/>
            <a:ext cx="7772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Е Н Ц Е Ф А Л И Т И С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152280" y="1310040"/>
            <a:ext cx="8991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Примарни енцефалитиси настају директном инвазијом можданог паренхима од стране инфективног аген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С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екундарни настају ширењем патолошког процеса узрокованог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: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нфекцијом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gt;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ара-постинфективн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м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дикам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ент.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или токсинима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gt;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токсични енцеф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65" name="AutoShape 5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762120" y="303840"/>
            <a:ext cx="7772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Е Н Ц Е Ф А Л И Т И С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762120" y="303840"/>
            <a:ext cx="7772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Е Н Ц Е Ф А Л И Т И С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-115920" y="1589040"/>
            <a:ext cx="859032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4" marL="1828800">
              <a:lnSpc>
                <a:spcPct val="130000"/>
              </a:lnSpc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Упала може да захвати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: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ретежно белу масу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&gt;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леукоенце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ф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литис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мали мозак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&gt;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ромбенце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ф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литис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ли је најчешће дифузна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&gt;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аненце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ф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литис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оред можданог ткива често су з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хваћене: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мождане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опне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&gt;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менингоенце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ф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литис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ичмена мождина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&gt;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менингоенце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ф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ломyелитис,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трансверзални мијелитис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нцефаломиелорадикулонеуритис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roup 9" descr=""/>
          <p:cNvPicPr/>
          <p:nvPr/>
        </p:nvPicPr>
        <p:blipFill>
          <a:blip r:embed="rId1"/>
          <a:stretch/>
        </p:blipFill>
        <p:spPr>
          <a:xfrm>
            <a:off x="212760" y="981000"/>
            <a:ext cx="8955000" cy="1397160"/>
          </a:xfrm>
          <a:prstGeom prst="rect">
            <a:avLst/>
          </a:prstGeom>
          <a:ln w="0">
            <a:noFill/>
          </a:ln>
        </p:spPr>
      </p:pic>
      <p:pic>
        <p:nvPicPr>
          <p:cNvPr id="61" name="Group 10" descr=""/>
          <p:cNvPicPr/>
          <p:nvPr/>
        </p:nvPicPr>
        <p:blipFill>
          <a:blip r:embed="rId2"/>
          <a:stretch/>
        </p:blipFill>
        <p:spPr>
          <a:xfrm>
            <a:off x="219240" y="2816280"/>
            <a:ext cx="8948520" cy="1579680"/>
          </a:xfrm>
          <a:prstGeom prst="rect">
            <a:avLst/>
          </a:prstGeom>
          <a:ln w="0">
            <a:noFill/>
          </a:ln>
        </p:spPr>
      </p:pic>
      <p:pic>
        <p:nvPicPr>
          <p:cNvPr id="62" name="Group 11" descr=""/>
          <p:cNvPicPr/>
          <p:nvPr/>
        </p:nvPicPr>
        <p:blipFill>
          <a:blip r:embed="rId3"/>
          <a:stretch/>
        </p:blipFill>
        <p:spPr>
          <a:xfrm>
            <a:off x="219240" y="4797360"/>
            <a:ext cx="894852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3"/>
          <p:cNvGrpSpPr/>
          <p:nvPr/>
        </p:nvGrpSpPr>
        <p:grpSpPr>
          <a:xfrm>
            <a:off x="1066680" y="533520"/>
            <a:ext cx="7553160" cy="6095880"/>
            <a:chOff x="1066680" y="533520"/>
            <a:chExt cx="7553160" cy="6095880"/>
          </a:xfrm>
        </p:grpSpPr>
        <p:pic>
          <p:nvPicPr>
            <p:cNvPr id="271" name="Picture 4" descr="Virus"/>
            <p:cNvPicPr/>
            <p:nvPr/>
          </p:nvPicPr>
          <p:blipFill>
            <a:blip r:embed="rId1"/>
            <a:stretch/>
          </p:blipFill>
          <p:spPr>
            <a:xfrm>
              <a:off x="1066680" y="533520"/>
              <a:ext cx="755316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5"/>
            <p:cNvSpPr/>
            <p:nvPr/>
          </p:nvSpPr>
          <p:spPr>
            <a:xfrm>
              <a:off x="4038480" y="2361960"/>
              <a:ext cx="914400" cy="398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oper Bold YU"/>
                </a:rPr>
                <a:t>DNA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4114800" y="3657600"/>
              <a:ext cx="914400" cy="39888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oper Bold YU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4005000" y="2971800"/>
              <a:ext cx="1046520" cy="45972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4c00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VIRUS</a:t>
              </a:r>
              <a:endParaRPr b="0" lang="en-US" sz="24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</p:grpSp>
      <p:sp>
        <p:nvSpPr>
          <p:cNvPr id="275" name="Line 8"/>
          <p:cNvSpPr/>
          <p:nvPr/>
        </p:nvSpPr>
        <p:spPr>
          <a:xfrm>
            <a:off x="1066680" y="3200400"/>
            <a:ext cx="2819520" cy="0"/>
          </a:xfrm>
          <a:prstGeom prst="line">
            <a:avLst/>
          </a:prstGeom>
          <a:ln w="7632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5257800" y="3200400"/>
            <a:ext cx="3352680" cy="0"/>
          </a:xfrm>
          <a:prstGeom prst="line">
            <a:avLst/>
          </a:prstGeom>
          <a:ln w="7632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3"/>
          <p:cNvGrpSpPr/>
          <p:nvPr/>
        </p:nvGrpSpPr>
        <p:grpSpPr>
          <a:xfrm>
            <a:off x="947880" y="485640"/>
            <a:ext cx="7248240" cy="5886720"/>
            <a:chOff x="947880" y="485640"/>
            <a:chExt cx="7248240" cy="5886720"/>
          </a:xfrm>
        </p:grpSpPr>
        <p:pic>
          <p:nvPicPr>
            <p:cNvPr id="278" name="Picture 4" descr="CNSInfection"/>
            <p:cNvPicPr/>
            <p:nvPr/>
          </p:nvPicPr>
          <p:blipFill>
            <a:blip r:embed="rId1"/>
            <a:stretch/>
          </p:blipFill>
          <p:spPr>
            <a:xfrm>
              <a:off x="947880" y="485640"/>
              <a:ext cx="7248240" cy="588672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279" name="Text Box 5"/>
            <p:cNvSpPr/>
            <p:nvPr/>
          </p:nvSpPr>
          <p:spPr>
            <a:xfrm>
              <a:off x="2895480" y="3352680"/>
              <a:ext cx="2667240" cy="33732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5500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VIRUSNE INFEK. CNS</a:t>
              </a:r>
              <a:endParaRPr b="0" lang="en-US" sz="16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3993840" y="2717640"/>
              <a:ext cx="962640" cy="3373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oper Bold YU"/>
                </a:rPr>
                <a:t>AKUTNE</a:t>
              </a:r>
              <a:endParaRPr b="0" lang="en-US" sz="16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4038480" y="3962520"/>
              <a:ext cx="914400" cy="3373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oper Bold YU"/>
                </a:rPr>
                <a:t>SLOW</a:t>
              </a:r>
              <a:endParaRPr b="0" lang="en-US" sz="16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3"/>
          <p:cNvSpPr/>
          <p:nvPr/>
        </p:nvSpPr>
        <p:spPr>
          <a:xfrm rot="5400000">
            <a:off x="4191120" y="-3200400"/>
            <a:ext cx="838080" cy="7696080"/>
          </a:xfrm>
          <a:custGeom>
            <a:avLst/>
            <a:gdLst>
              <a:gd name="textAreaLeft" fmla="*/ 0 w 838080"/>
              <a:gd name="textAreaRight" fmla="*/ 838440 w 83808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447200" y="228600"/>
            <a:ext cx="64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ЕТИОЛОГИЈА ЕНЦЕФАЛИТИ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8600" y="1447920"/>
          <a:ext cx="8686800" cy="5337000"/>
        </p:xfrm>
        <a:graphic>
          <a:graphicData uri="http://schemas.openxmlformats.org/drawingml/2006/table">
            <a:tbl>
              <a:tblPr/>
              <a:tblGrid>
                <a:gridCol w="3921120"/>
                <a:gridCol w="476568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oper Bold YU"/>
                          <a:ea typeface="Times New Roman"/>
                        </a:rPr>
                        <a:t>ВИРУС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теровир., АРБО, ХСВ, инфлуен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еонатални перио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МВ, ХСВ тип 2, рубелла, ЕЦХ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oper Bold YU"/>
                          <a:ea typeface="Times New Roman"/>
                        </a:rPr>
                        <a:t>ПАРАИНФЕКТИВНИ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oper Bold YU"/>
                          <a:ea typeface="Times New Roman"/>
                        </a:rPr>
                        <a:t>ПОСТИНФЕКТИВ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билле, варицелла, рубел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-20 дана од појаве осп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икација вакцина про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нила, вариоле, морб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oper Bold YU"/>
                          <a:ea typeface="Times New Roman"/>
                        </a:rPr>
                        <a:t>СУБАКУТНИ И ХРОНИЧ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oper Bold YU"/>
                          <a:ea typeface="Times New Roman"/>
                        </a:rPr>
                        <a:t>(СПОРИ ВИРУСН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П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орбилле, рубелла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ојц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д-Јакобова бол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они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oper Bold YU"/>
                          <a:ea typeface="Times New Roman"/>
                        </a:rPr>
                        <a:t>ЕНЦЕФАЛОПАТИЈ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 синдр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целле или грипа (+салицилати 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есивна мултифокалн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укоенцефалопатиј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апова вир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22"/>
          <p:cNvSpPr/>
          <p:nvPr/>
        </p:nvSpPr>
        <p:spPr>
          <a:xfrm>
            <a:off x="0" y="4935600"/>
            <a:ext cx="1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560320" y="2286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ЕПИДЕМИ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52280" y="1606320"/>
            <a:ext cx="956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У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многим областима АРБО вируси изазивају сезонске епидемије енцефалитис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Вектори су комарци или крпе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сточни и западни ко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к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јапански Б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руск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ред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оевропски енцефалитис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западног Нил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 лето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gt;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епидемије ентеровирусних енцеф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.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(Коксаки А, тип 7)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зиму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&gt; епидемије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нфлуенца енцеф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3"/>
          <p:cNvSpPr/>
          <p:nvPr/>
        </p:nvSpPr>
        <p:spPr>
          <a:xfrm rot="5400000">
            <a:off x="4191120" y="-3200400"/>
            <a:ext cx="838080" cy="7696080"/>
          </a:xfrm>
          <a:custGeom>
            <a:avLst/>
            <a:gdLst>
              <a:gd name="textAreaLeft" fmla="*/ 0 w 838080"/>
              <a:gd name="textAreaRight" fmla="*/ 838440 w 83808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793520" y="22860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ХЕРПЕСНИ ЕНЦЕФАЛИТИС</a:t>
            </a:r>
            <a:r>
              <a:rPr b="0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304920" y="105048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У новорођенчади се због гениталног херпеса мајке</a:t>
            </a: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(ХСВ 2)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јав</a:t>
            </a:r>
            <a:r>
              <a:rPr b="0" lang="ru-RU" sz="3200" spc="-1" strike="noStrike">
                <a:solidFill>
                  <a:srgbClr val="000000"/>
                </a:solidFill>
                <a:latin typeface="Cooper Bold YU"/>
              </a:rPr>
              <a:t>љ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а инфекција 1 на 2-5000 порођаја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која се у 30% манифестује као неонаталн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менингоенцефалитис.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838080" y="5334120"/>
            <a:ext cx="762120" cy="4572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609480" y="1431720"/>
            <a:ext cx="78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ХСВ може доспети до ЦНС-а на три начина: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путем хематогене дисеминације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путем олфактивних влакан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ретроградним шире</a:t>
            </a:r>
            <a:r>
              <a:rPr b="0" lang="ru-RU" sz="32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ем из ганглио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према мозг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94" name="AutoShape 4"/>
          <p:cNvSpPr/>
          <p:nvPr/>
        </p:nvSpPr>
        <p:spPr>
          <a:xfrm rot="5400000">
            <a:off x="4267080" y="-3276360"/>
            <a:ext cx="685800" cy="7696080"/>
          </a:xfrm>
          <a:custGeom>
            <a:avLst/>
            <a:gdLst>
              <a:gd name="textAreaLeft" fmla="*/ 0 w 685800"/>
              <a:gd name="textAreaRight" fmla="*/ 686160 w 6858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1066680" y="12945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утем хематогене дисеминације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97" name="AutoShape 4"/>
          <p:cNvSpPr/>
          <p:nvPr/>
        </p:nvSpPr>
        <p:spPr>
          <a:xfrm rot="5400000">
            <a:off x="4267080" y="-3276360"/>
            <a:ext cx="685800" cy="7696080"/>
          </a:xfrm>
          <a:custGeom>
            <a:avLst/>
            <a:gdLst>
              <a:gd name="textAreaLeft" fmla="*/ 0 w 685800"/>
              <a:gd name="textAreaRight" fmla="*/ 686160 w 6858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52280" y="3886200"/>
            <a:ext cx="7696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312480" y="2424600"/>
            <a:ext cx="7917480" cy="24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теровируси преко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ГИТ-а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улазе у кр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РБО вирусе крпељи убризгају у крв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апљичн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е инфекције (инфлуенца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з слузнице назофаринкса у крв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3"/>
          <p:cNvSpPr/>
          <p:nvPr/>
        </p:nvSpPr>
        <p:spPr>
          <a:xfrm rot="5400000">
            <a:off x="4267080" y="-3276360"/>
            <a:ext cx="685800" cy="7696080"/>
          </a:xfrm>
          <a:custGeom>
            <a:avLst/>
            <a:gdLst>
              <a:gd name="textAreaLeft" fmla="*/ 0 w 685800"/>
              <a:gd name="textAreaRight" fmla="*/ 686160 w 6858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2325600" y="1981080"/>
            <a:ext cx="3829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из назофаринкса 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кроз ламину криброзу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990720" y="9144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2.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П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тем олфактивних влакана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3"/>
          <p:cNvSpPr/>
          <p:nvPr/>
        </p:nvSpPr>
        <p:spPr>
          <a:xfrm rot="5400000">
            <a:off x="4267080" y="-3276360"/>
            <a:ext cx="685800" cy="7696080"/>
          </a:xfrm>
          <a:custGeom>
            <a:avLst/>
            <a:gdLst>
              <a:gd name="textAreaLeft" fmla="*/ 0 w 685800"/>
              <a:gd name="textAreaRight" fmla="*/ 686160 w 6858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33520" y="92916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3.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Р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троградним шире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м из вирусом засејаних ганглиона према мозгу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АТОАНАТОМ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329760" y="1110600"/>
            <a:ext cx="857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финитет вируса за поједине ћелије одређен је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пецифичним рецепторима на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ховој површини.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арочита предилекција ХСВ је прем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темпоралном и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фронтоорбиталном реж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у.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1114920"/>
            <a:ext cx="883908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узнемиреност или поспаност  се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развијају и неколико да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онфузија, фотофобија и хиперестезиј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температура, главобоља, мука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овраћање, укочен врат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оремећај свести, конвулзије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фотофоб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ређе настаје застојна папила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4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107360" y="22860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АРАКТЕРИСТИЧНИ СИМПТОМ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И ЗНАЦ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Д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И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Ј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А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Г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Н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О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З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639000" y="1156320"/>
            <a:ext cx="48272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НАЛАЗ У ЛИКВОР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ЕЕГ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ЦТ, МР, ПЕТ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ИЗОЛАЦИЈА ВИРУС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БИОПСИЈА МОЗГ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04920" y="1521720"/>
            <a:ext cx="85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У неонатуса херпесни менингоенцеф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е јав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љ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 као део дисеминоване инфекције крајем I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еде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љ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, или као изоловани енцефалитис обично у II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ли III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еде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љ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228600" y="988560"/>
            <a:ext cx="89154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ooper Bold YU"/>
              </a:rPr>
              <a:t>Кожне промене </a:t>
            </a: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(везикуле, макулопапуле, крусте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у склопу дисеминоване ХСВ 2 инфекције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Л</a:t>
            </a:r>
            <a:r>
              <a:rPr b="1" lang="sr-Latn-CS" sz="2000" spc="-1" strike="noStrike">
                <a:solidFill>
                  <a:srgbClr val="000000"/>
                </a:solidFill>
                <a:latin typeface="Cooper Bold YU"/>
              </a:rPr>
              <a:t>езије на слузницама</a:t>
            </a: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ooper Bold YU"/>
              </a:rPr>
              <a:t>(кератоко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000" spc="-1" strike="noStrike">
                <a:solidFill>
                  <a:srgbClr val="000000"/>
                </a:solidFill>
                <a:latin typeface="Cooper Bold YU"/>
              </a:rPr>
              <a:t>унктивитис, хориоретинитис) 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oper Bold YU"/>
              </a:rPr>
              <a:t>обично претходе знацима оштеће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000" spc="-1" strike="noStrike">
                <a:solidFill>
                  <a:srgbClr val="000000"/>
                </a:solidFill>
                <a:latin typeface="Cooper Bold YU"/>
              </a:rPr>
              <a:t>а ЦНС-а. 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473040" y="1143000"/>
            <a:ext cx="8884080" cy="54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Ране манифестације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болести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у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ритабилност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овраћа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5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П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оремећај свести се брзо продуб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је до коме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еонаталне конвулзиј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ромене тонуса (парезе екстремитета)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дистониј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децеребр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ригидност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истагмус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апета фонтанела</a:t>
            </a:r>
            <a:r>
              <a:rPr b="0" lang="sr-Latn-CS" sz="3200" spc="-1" strike="noStrike">
                <a:solidFill>
                  <a:srgbClr val="000000"/>
                </a:solidFill>
                <a:latin typeface="Cooper Bold Y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40160" y="1296360"/>
            <a:ext cx="784476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У деце након неонаталног период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најраниј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и знаци су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главобо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ромена понаш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ови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ш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на температур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овраћ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малаксалост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3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ритабилност или летарг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380880" y="1157400"/>
            <a:ext cx="9107640" cy="52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За неколико дана болест прогредира појавом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фокалних неуролошких знаков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(који су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израженији у старије деце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)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арцијални епи напад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фаз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хемипарез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арезе кранијалних нерава идр.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oper Bold YU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04920" y="929520"/>
            <a:ext cx="93726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oper Bold YU"/>
              </a:rPr>
              <a:t>Други пратећи знаци болести:</a:t>
            </a:r>
            <a:r>
              <a:rPr b="1" lang="sr-Latn-C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халуцинациј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аутономни поремећај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знаци повећа</a:t>
            </a:r>
            <a:r>
              <a:rPr b="1" lang="sr-CS" sz="2800" spc="-1" strike="noStrike">
                <a:solidFill>
                  <a:srgbClr val="ffff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а интракр</a:t>
            </a:r>
            <a:r>
              <a:rPr b="1" lang="sr-CS" sz="2800" spc="-1" strike="noStrike">
                <a:solidFill>
                  <a:srgbClr val="ffff00"/>
                </a:solidFill>
                <a:latin typeface="Cooper Bold YU"/>
              </a:rPr>
              <a:t>.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 притиска 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поремећај свести , све до ком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д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ецеребрација, услед компресије мезенцеф</a:t>
            </a: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.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обично претходи кардиореспир</a:t>
            </a: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.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 застој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2aa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Cooper Bold YU"/>
              </a:rPr>
              <a:t>Д И Ј А Г Н О З 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31480" y="993960"/>
            <a:ext cx="91101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Cooper Bold YU"/>
              </a:rPr>
              <a:t>ЛИКВОР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 је бистар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протеинорахија повишена ((0.6 до 2г/л) 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гликорахиј</a:t>
            </a: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а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је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нормалн</a:t>
            </a: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а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број ћелија је </a:t>
            </a:r>
            <a:r>
              <a:rPr b="1" lang="ru-RU" sz="2800" spc="-1" strike="noStrike">
                <a:solidFill>
                  <a:srgbClr val="ffff00"/>
                </a:solidFill>
                <a:latin typeface="Cooper Bold YU"/>
              </a:rPr>
              <a:t>50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до 1000 у мм3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углавном лимфоцит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Cooper Bold YU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 почетку болести у могу </a:t>
            </a:r>
            <a:r>
              <a:rPr b="1" lang="ru-RU" sz="2800" spc="-1" strike="noStrike">
                <a:solidFill>
                  <a:srgbClr val="ffff00"/>
                </a:solidFill>
                <a:latin typeface="Cooper Bold YU"/>
              </a:rPr>
              <a:t>се наћи 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полиморфонукл</a:t>
            </a:r>
            <a:r>
              <a:rPr b="1" lang="ru-RU" sz="2800" spc="-1" strike="noStrike">
                <a:solidFill>
                  <a:srgbClr val="ffff00"/>
                </a:solidFill>
                <a:latin typeface="Cooper Bold YU"/>
              </a:rPr>
              <a:t>еар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Cooper Bold YU"/>
              </a:rPr>
              <a:t>К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онтролна пункција за 24-48</a:t>
            </a:r>
            <a:r>
              <a:rPr b="1" lang="sr-Latn-CS" sz="2800" spc="-1" strike="noStrike" baseline="30000">
                <a:solidFill>
                  <a:srgbClr val="ffff00"/>
                </a:solidFill>
                <a:latin typeface="Cooper Bold YU"/>
              </a:rPr>
              <a:t>h</a:t>
            </a:r>
            <a:r>
              <a:rPr b="1" lang="sr-Latn-CS" sz="2800" spc="-1" strike="noStrike">
                <a:solidFill>
                  <a:srgbClr val="ffff00"/>
                </a:solidFill>
                <a:latin typeface="Cooper Bold YU"/>
              </a:rPr>
              <a:t> покаже увек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oper Bold YU"/>
              </a:rPr>
              <a:t>конверзију у мононуклеарну плеоцитоз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182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 И Ј А Г Н О З 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-2160" y="1220040"/>
            <a:ext cx="9459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ЕЕГ НАЛАЗ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јсензитивнији тест за рано открив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фокалног карактера енцефалитиса.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Ј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днострана епилептиформна праж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, ил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регуларни, периодични спори, Делта таласи.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ромене су локализоване над фронталним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 темпоралним лобусима,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Б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латералне су непово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љ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н прогностички знак.</a:t>
            </a:r>
            <a:r>
              <a:rPr b="0" lang="ru-RU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 И Ј А Г Н О З 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88800" y="687240"/>
            <a:ext cx="84286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НЕУРОРАДИОЛОГИЈА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ЦТ и МР показују током прогресије болест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зоне см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не густине,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фокални едем,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тумурозне формације,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1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онекад и хеморагична ог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шт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344" name="Picture 6" descr="hsvenc1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191120" y="4267080"/>
            <a:ext cx="3778200" cy="2349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HSV enc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144440" y="4267080"/>
            <a:ext cx="224964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762120" y="3913920"/>
            <a:ext cx="350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температур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повраћањ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7" name="AutoShape 4"/>
          <p:cNvSpPr/>
          <p:nvPr/>
        </p:nvSpPr>
        <p:spPr>
          <a:xfrm rot="5400000">
            <a:off x="4038480" y="-3047760"/>
            <a:ext cx="1143000" cy="769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107360" y="22860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КАРАКТЕРИСТИЧНИ СИМПТОМ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И ЗНАЦ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69" name="Picture 6" descr="358816-32020-35"/>
          <p:cNvPicPr/>
          <p:nvPr/>
        </p:nvPicPr>
        <p:blipFill>
          <a:blip r:embed="rId1"/>
          <a:stretch/>
        </p:blipFill>
        <p:spPr>
          <a:xfrm>
            <a:off x="838080" y="1981080"/>
            <a:ext cx="2971800" cy="19782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5"/>
          <p:cNvGrpSpPr/>
          <p:nvPr/>
        </p:nvGrpSpPr>
        <p:grpSpPr>
          <a:xfrm>
            <a:off x="4699440" y="1905120"/>
            <a:ext cx="3193560" cy="4572000"/>
            <a:chOff x="4699440" y="1905120"/>
            <a:chExt cx="3193560" cy="4572000"/>
          </a:xfrm>
        </p:grpSpPr>
        <p:pic>
          <p:nvPicPr>
            <p:cNvPr id="71" name="Picture 8" descr="Symptoms_of_Meningitis 1"/>
            <p:cNvPicPr/>
            <p:nvPr/>
          </p:nvPicPr>
          <p:blipFill>
            <a:blip r:embed="rId2"/>
            <a:stretch/>
          </p:blipFill>
          <p:spPr>
            <a:xfrm>
              <a:off x="4724280" y="1905120"/>
              <a:ext cx="31687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9"/>
            <p:cNvSpPr/>
            <p:nvPr/>
          </p:nvSpPr>
          <p:spPr>
            <a:xfrm>
              <a:off x="4699440" y="2286000"/>
              <a:ext cx="20674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ЦНС</a:t>
              </a:r>
              <a:endParaRPr b="0" lang="en-US" sz="18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главобоља</a:t>
              </a:r>
              <a:endParaRPr b="0" lang="en-US" sz="14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промена располож</a:t>
              </a:r>
              <a:endParaRPr b="0" lang="en-US" sz="14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4724280" y="297180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СЛУХ</a:t>
              </a:r>
              <a:endParaRPr b="0" lang="en-US" sz="18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фонофобија</a:t>
              </a:r>
              <a:endParaRPr b="0" lang="en-US" sz="14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4724280" y="35053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ВИД</a:t>
              </a:r>
              <a:endParaRPr b="0" lang="en-US" sz="18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фотофобија</a:t>
              </a:r>
              <a:endParaRPr b="0" lang="en-US" sz="14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75" name="Rectangle 12"/>
            <p:cNvSpPr/>
            <p:nvPr/>
          </p:nvSpPr>
          <p:spPr>
            <a:xfrm>
              <a:off x="4724280" y="403848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ВРАТ</a:t>
              </a:r>
              <a:endParaRPr b="0" lang="en-US" sz="18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укоченост</a:t>
              </a:r>
              <a:endParaRPr b="0" lang="en-US" sz="14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4724280" y="457200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СИСТЕМСКИ</a:t>
              </a:r>
              <a:endParaRPr b="0" lang="en-US" sz="18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висока темпер.</a:t>
              </a:r>
              <a:endParaRPr b="0" lang="en-US" sz="14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  <p:sp>
          <p:nvSpPr>
            <p:cNvPr id="77" name="Rectangle 14"/>
            <p:cNvSpPr/>
            <p:nvPr/>
          </p:nvSpPr>
          <p:spPr>
            <a:xfrm>
              <a:off x="4724280" y="5105520"/>
              <a:ext cx="16002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Cooper Bold YU"/>
                </a:rPr>
                <a:t>КОЖА</a:t>
              </a:r>
              <a:endParaRPr b="0" lang="en-US" sz="18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- петехије</a:t>
              </a:r>
              <a:endParaRPr b="0" lang="en-US" sz="1400" spc="-1" strike="noStrike">
                <a:solidFill>
                  <a:srgbClr val="000000"/>
                </a:solidFill>
                <a:latin typeface="Cooper Bold YU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Cooper Bold YU"/>
                </a:rPr>
                <a:t>(менингокок)</a:t>
              </a:r>
              <a:endParaRPr b="0" lang="en-US" sz="1400" spc="-1" strike="noStrike">
                <a:solidFill>
                  <a:srgbClr val="000000"/>
                </a:solidFill>
                <a:latin typeface="Cooper Bold YU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 И Ј А Г Н О З 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609480" y="688320"/>
            <a:ext cx="7925040" cy="55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ЗОЛАЦИЈА ВИРУСА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золација вируса из ликвора је готово немогућ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ЦР или ЕЛИСА тестом може урадити брза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дентификација антигена ХСВ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 И Ј А Г Н О З 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04920" y="847080"/>
            <a:ext cx="8686800" cy="51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ЕРОЛОШКИ НАЛАЗИ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лаз специфичних ИгМ антитела 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еруму и ликвору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П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ораст титра ИгГ антител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четвороструки или виши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змеђу серум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зетог у акутној и рековалесцентној фаз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болести (за 15 дана)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О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днос титра антитела у серуму и ликвору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(&gt;1:20 указује на синтезу антитела у ЦНС-у)</a:t>
            </a:r>
            <a:r>
              <a:rPr b="0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 И Ј А Г Н О З 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609480" y="288720"/>
            <a:ext cx="8153640" cy="64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БИОПСИЈА МОЗГА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П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оуздан метод за брзу дијагнозу херп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. е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нцефалитис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атохистолошки се уочавају: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ериваскуларни инфилтрати, уз присуство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озинофилних интрануклеарних инклузиј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(А инклузије </a:t>
            </a:r>
            <a:r>
              <a:rPr b="1" lang="sr-Latn-CS" sz="3200" spc="-1" strike="noStrike">
                <a:solidFill>
                  <a:srgbClr val="000000"/>
                </a:solidFill>
                <a:latin typeface="Cooper Bold YU"/>
              </a:rPr>
              <a:t>Cowdry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-евог типа).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 И Ј А Г Н О З 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80880" y="837360"/>
            <a:ext cx="815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БИОПСИЈА МОЗГА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457200" y="1475640"/>
            <a:ext cx="82296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Вирус се може наћи електронском микроскопијом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и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детектовати вирусни антигени (флуоресцентна антитела) из исечка мозг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38080" y="1295280"/>
          <a:ext cx="7467840" cy="5176800"/>
        </p:xfrm>
        <a:graphic>
          <a:graphicData uri="http://schemas.openxmlformats.org/drawingml/2006/table">
            <a:tbl>
              <a:tblPr/>
              <a:tblGrid>
                <a:gridCol w="1943280"/>
                <a:gridCol w="5524560"/>
              </a:tblGrid>
              <a:tr h="79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224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фоцитни хориоменин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СПЕ, АРБО енц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1224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Ј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ацтериум туберцулосис,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сцес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дурални емпијем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ериоза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НС-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ЉИВИЦ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птококу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ди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ЗИ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сма Гондии, Амебиј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ИГНИТ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укоза, ЦНС тумор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ЕБРОВАС БОЛЕ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, васкуларне малформације, инфаркциј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ЦЕФАЛО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224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в синдр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1224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224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Rectangle 32"/>
          <p:cNvSpPr/>
          <p:nvPr/>
        </p:nvSpPr>
        <p:spPr>
          <a:xfrm>
            <a:off x="0" y="50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Т Е Р А П И Ј 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380880" y="1356840"/>
            <a:ext cx="8382240" cy="50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колико постоји сум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 на херпесни енцефалитис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вако фебрилно дете са парцијалним епи нападима или фокалним неуролошким знацима, уз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рогресивно погорш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 ст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 свест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без одлаг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 треба применити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old YU"/>
              </a:rPr>
              <a:t>ACIKLOVIR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 дневној дози од 30мг/кг (на 8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х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 50-100мл инфузионог расвор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 току 10-14 дана.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Т Е Р А П И Ј 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380880" y="1281960"/>
            <a:ext cx="8610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Лече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 енцефалитиса се спроводи у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ЈИН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 обухвата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одржав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 виталних функција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кардио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респираторн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подршк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имптоматску терапију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нтиконвулзиви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осмотерапија-кортикостероид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диуретиц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рестрикција течност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лектролитни баланс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нергетска надокнад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нег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П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Р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О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Г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Н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О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З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533520" y="1000800"/>
            <a:ext cx="861048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МОРТАЛИТЕТ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 неонаталном периоду 20-80%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4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лич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н је и код нелечене старије дец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цикловир дат у почетној фази болест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м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је морталитет на 20-30% 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доприноси м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њ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ој учесталости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еквела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3"/>
          <p:cNvSpPr/>
          <p:nvPr/>
        </p:nvSpPr>
        <p:spPr>
          <a:xfrm rot="5400000">
            <a:off x="4228920" y="-3238200"/>
            <a:ext cx="762120" cy="7696080"/>
          </a:xfrm>
          <a:custGeom>
            <a:avLst/>
            <a:gdLst>
              <a:gd name="textAreaLeft" fmla="*/ 0 w 762120"/>
              <a:gd name="textAreaRight" fmla="*/ 762480 w 762120"/>
              <a:gd name="textAreaTop" fmla="*/ 0 h 7696080"/>
              <a:gd name="textAreaBottom" fmla="*/ 769644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762120" y="22860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П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Р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О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Г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Н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О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З</a:t>
            </a: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762120" y="1105200"/>
            <a:ext cx="80769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НЕУРОЛОШКЕ СЕКВЕЛЕ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заостају у преко 50% преживелих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микроцефалиј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ментална и/или моторна ретардац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илепс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лепило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2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глувоћ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11280" y="260280"/>
          <a:ext cx="8229600" cy="6394680"/>
        </p:xfrm>
        <a:graphic>
          <a:graphicData uri="http://schemas.openxmlformats.org/drawingml/2006/table">
            <a:tbl>
              <a:tblPr/>
              <a:tblGrid>
                <a:gridCol w="3097080"/>
                <a:gridCol w="1943280"/>
                <a:gridCol w="1657080"/>
                <a:gridCol w="1532160"/>
              </a:tblGrid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ПТО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нат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ој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раћ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орекс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арг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итабил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обољ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 у вра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уз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фоб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иперестез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79280" y="457200"/>
          <a:ext cx="8812440" cy="6066000"/>
        </p:xfrm>
        <a:graphic>
          <a:graphicData uri="http://schemas.openxmlformats.org/drawingml/2006/table">
            <a:tbl>
              <a:tblPr/>
              <a:tblGrid>
                <a:gridCol w="3554640"/>
                <a:gridCol w="1704960"/>
                <a:gridCol w="1919160"/>
                <a:gridCol w="1633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Ц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нат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ојче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ца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+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вулз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+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јаре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т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еориз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ираторни дистр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очен в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nig / Bružins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тото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акс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ета фонтан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78"/>
          <p:cNvSpPr/>
          <p:nvPr/>
        </p:nvSpPr>
        <p:spPr>
          <a:xfrm>
            <a:off x="5715000" y="6535800"/>
            <a:ext cx="324000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+++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50%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10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-50%  + 1-10%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sr-Latn-CS" sz="1400" spc="-1" strike="noStrike">
                <a:solidFill>
                  <a:srgbClr val="000000"/>
                </a:solidFill>
                <a:latin typeface="Comic Sans MS"/>
              </a:rPr>
              <a:t> &lt;1%</a:t>
            </a:r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6T17:05:33Z</dcterms:created>
  <dc:creator>Boban</dc:creator>
  <dc:description/>
  <dc:language>en-US</dc:language>
  <cp:lastModifiedBy>Win7</cp:lastModifiedBy>
  <dcterms:modified xsi:type="dcterms:W3CDTF">2014-08-27T08:08:21Z</dcterms:modified>
  <cp:revision>66</cp:revision>
  <dc:subject/>
  <dc:title>No Slide Title</dc:title>
</cp:coreProperties>
</file>