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1084-8C1C-4B71-9934-4DC740312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B55D-00EF-4418-A3DD-24BFDB6FD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6C12-170F-4036-A087-919594254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0360-B3A1-463A-92BF-17814CF5D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E83E-6534-4726-A670-0024DCEE0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F40E-1936-48B8-B0A4-C572B207F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6CB1-39B2-461E-BC7C-5F63A0CE6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8941-30F5-4108-B632-4D672B7A7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2A36-C206-4562-8818-A9FECC992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146B-2157-4CD1-A377-FCBF5EEAC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7E22-6A35-4295-A149-1CB5C028A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D5AC-FC19-49D5-92D1-3EEB66345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F40B-CA70-4417-A444-B4E55D7A1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02E5-763F-4EEE-9418-DF2ED4183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117E-5B31-4399-AC94-BB42AC08A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2520-7F19-44AA-A4F7-8ECC1267A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9878-E074-43D5-B3EC-258F6CB76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79BD-7C98-4FF7-8FC7-C236A60FB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E850-55F1-409D-ADFA-BA8AFBDD7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B4BB-B110-4906-81B2-F9B95D831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C339-F4E8-47AE-AEBF-C0D1E8EF2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2394-46B1-48E5-9785-1146931CC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8438-DEE6-4111-906E-0E5334C38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9304-EE79-47E9-A553-4702ADE0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2C27-12D6-4F99-BCF3-35817078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9CCB-615C-4EC1-A5D0-76063951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EF41-C16F-474D-A6DF-488C30EB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2847-9850-4096-A33F-69C1A07E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E77B-7B9E-4A9F-83EF-AC84F5C2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A7FB-2439-444E-82B2-C5080999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85C4-FF17-42BA-87CC-F97A0BF3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6BC1-1ED5-4749-9E42-DDCFF3B3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B557-4875-4C7A-B91A-F275DDBA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23AA-04EE-44E8-9383-0500E42F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FEEF-837F-4FFE-9C67-09C51517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8B02-1ED4-4742-9FE2-06B20232A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Group 7" descr=""/>
          <p:cNvPicPr/>
          <p:nvPr/>
        </p:nvPicPr>
        <p:blipFill>
          <a:blip r:embed="rId1"/>
          <a:stretch/>
        </p:blipFill>
        <p:spPr>
          <a:xfrm>
            <a:off x="1427040" y="2189160"/>
            <a:ext cx="6620040" cy="225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984320" y="-720"/>
            <a:ext cx="56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Клинички центар Крагујевац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409200" y="5150160"/>
            <a:ext cx="51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Проф. др Слободан Обрадовић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2482200" y="304200"/>
            <a:ext cx="43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ТРАЈАЊЕ НАПАД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80880" y="1047600"/>
            <a:ext cx="85345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*напади код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oper Bold YU"/>
              </a:rPr>
              <a:t>типичних ФК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трају мање од 15 мин.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(обично око 2 мин.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*напади код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oper Bold YU"/>
              </a:rPr>
              <a:t>атипичних ФК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трају преко 15 мин.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*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oper Bold YU"/>
              </a:rPr>
              <a:t>фебрилни епи статус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кад напади трају преко 30 мин.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  <p:pic>
        <p:nvPicPr>
          <p:cNvPr id="70" name="Picture 5" descr="clock"/>
          <p:cNvPicPr/>
          <p:nvPr/>
        </p:nvPicPr>
        <p:blipFill>
          <a:blip r:embed="rId1"/>
          <a:stretch/>
        </p:blipFill>
        <p:spPr>
          <a:xfrm>
            <a:off x="3809880" y="3886200"/>
            <a:ext cx="1592280" cy="1600200"/>
          </a:xfrm>
          <a:prstGeom prst="rect">
            <a:avLst/>
          </a:prstGeom>
          <a:ln w="0">
            <a:noFill/>
          </a:ln>
        </p:spPr>
      </p:pic>
      <p:sp>
        <p:nvSpPr>
          <p:cNvPr id="71" name="Freeform 6"/>
          <p:cNvSpPr/>
          <p:nvPr/>
        </p:nvSpPr>
        <p:spPr>
          <a:xfrm>
            <a:off x="4495680" y="3960720"/>
            <a:ext cx="838440" cy="992160"/>
          </a:xfrm>
          <a:custGeom>
            <a:avLst/>
            <a:gdLst>
              <a:gd name="textAreaLeft" fmla="*/ 0 w 838440"/>
              <a:gd name="textAreaRight" fmla="*/ 838800 w 838440"/>
              <a:gd name="textAreaTop" fmla="*/ 0 h 992160"/>
              <a:gd name="textAreaBottom" fmla="*/ 992160 h 992160"/>
            </a:gdLst>
            <a:ahLst/>
            <a:rect l="textAreaLeft" t="textAreaTop" r="textAreaRight" b="textAreaBottom"/>
            <a:pathLst>
              <a:path w="531" h="594">
                <a:moveTo>
                  <a:pt x="59" y="3"/>
                </a:moveTo>
                <a:cubicBezTo>
                  <a:pt x="65" y="93"/>
                  <a:pt x="62" y="180"/>
                  <a:pt x="61" y="271"/>
                </a:cubicBezTo>
                <a:cubicBezTo>
                  <a:pt x="66" y="594"/>
                  <a:pt x="0" y="459"/>
                  <a:pt x="525" y="457"/>
                </a:cubicBezTo>
                <a:cubicBezTo>
                  <a:pt x="524" y="428"/>
                  <a:pt x="531" y="401"/>
                  <a:pt x="515" y="377"/>
                </a:cubicBezTo>
                <a:cubicBezTo>
                  <a:pt x="508" y="349"/>
                  <a:pt x="506" y="306"/>
                  <a:pt x="485" y="285"/>
                </a:cubicBezTo>
                <a:cubicBezTo>
                  <a:pt x="483" y="278"/>
                  <a:pt x="475" y="267"/>
                  <a:pt x="475" y="267"/>
                </a:cubicBezTo>
                <a:cubicBezTo>
                  <a:pt x="471" y="252"/>
                  <a:pt x="468" y="230"/>
                  <a:pt x="455" y="221"/>
                </a:cubicBezTo>
                <a:cubicBezTo>
                  <a:pt x="450" y="206"/>
                  <a:pt x="426" y="171"/>
                  <a:pt x="413" y="163"/>
                </a:cubicBezTo>
                <a:cubicBezTo>
                  <a:pt x="411" y="157"/>
                  <a:pt x="403" y="149"/>
                  <a:pt x="397" y="147"/>
                </a:cubicBezTo>
                <a:cubicBezTo>
                  <a:pt x="394" y="139"/>
                  <a:pt x="386" y="135"/>
                  <a:pt x="379" y="129"/>
                </a:cubicBezTo>
                <a:cubicBezTo>
                  <a:pt x="369" y="121"/>
                  <a:pt x="362" y="109"/>
                  <a:pt x="353" y="101"/>
                </a:cubicBezTo>
                <a:cubicBezTo>
                  <a:pt x="349" y="98"/>
                  <a:pt x="344" y="96"/>
                  <a:pt x="341" y="93"/>
                </a:cubicBezTo>
                <a:cubicBezTo>
                  <a:pt x="326" y="78"/>
                  <a:pt x="334" y="84"/>
                  <a:pt x="317" y="73"/>
                </a:cubicBezTo>
                <a:cubicBezTo>
                  <a:pt x="315" y="72"/>
                  <a:pt x="311" y="69"/>
                  <a:pt x="311" y="69"/>
                </a:cubicBezTo>
                <a:cubicBezTo>
                  <a:pt x="301" y="55"/>
                  <a:pt x="280" y="47"/>
                  <a:pt x="263" y="43"/>
                </a:cubicBezTo>
                <a:cubicBezTo>
                  <a:pt x="249" y="34"/>
                  <a:pt x="231" y="33"/>
                  <a:pt x="215" y="27"/>
                </a:cubicBezTo>
                <a:cubicBezTo>
                  <a:pt x="168" y="9"/>
                  <a:pt x="122" y="5"/>
                  <a:pt x="71" y="3"/>
                </a:cubicBezTo>
                <a:cubicBezTo>
                  <a:pt x="62" y="1"/>
                  <a:pt x="65" y="0"/>
                  <a:pt x="59" y="3"/>
                </a:cubicBez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72" name="Freeform 7"/>
          <p:cNvSpPr/>
          <p:nvPr/>
        </p:nvSpPr>
        <p:spPr>
          <a:xfrm rot="5524200">
            <a:off x="4455360" y="4536360"/>
            <a:ext cx="844560" cy="915840"/>
          </a:xfrm>
          <a:custGeom>
            <a:avLst/>
            <a:gdLst>
              <a:gd name="textAreaLeft" fmla="*/ 0 w 844560"/>
              <a:gd name="textAreaRight" fmla="*/ 844920 w 84456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w="531" h="594">
                <a:moveTo>
                  <a:pt x="59" y="3"/>
                </a:moveTo>
                <a:cubicBezTo>
                  <a:pt x="65" y="93"/>
                  <a:pt x="62" y="180"/>
                  <a:pt x="61" y="271"/>
                </a:cubicBezTo>
                <a:cubicBezTo>
                  <a:pt x="66" y="594"/>
                  <a:pt x="0" y="459"/>
                  <a:pt x="525" y="457"/>
                </a:cubicBezTo>
                <a:cubicBezTo>
                  <a:pt x="524" y="428"/>
                  <a:pt x="531" y="401"/>
                  <a:pt x="515" y="377"/>
                </a:cubicBezTo>
                <a:cubicBezTo>
                  <a:pt x="508" y="349"/>
                  <a:pt x="506" y="306"/>
                  <a:pt x="485" y="285"/>
                </a:cubicBezTo>
                <a:cubicBezTo>
                  <a:pt x="483" y="278"/>
                  <a:pt x="475" y="267"/>
                  <a:pt x="475" y="267"/>
                </a:cubicBezTo>
                <a:cubicBezTo>
                  <a:pt x="471" y="252"/>
                  <a:pt x="468" y="230"/>
                  <a:pt x="455" y="221"/>
                </a:cubicBezTo>
                <a:cubicBezTo>
                  <a:pt x="450" y="206"/>
                  <a:pt x="426" y="171"/>
                  <a:pt x="413" y="163"/>
                </a:cubicBezTo>
                <a:cubicBezTo>
                  <a:pt x="411" y="157"/>
                  <a:pt x="403" y="149"/>
                  <a:pt x="397" y="147"/>
                </a:cubicBezTo>
                <a:cubicBezTo>
                  <a:pt x="394" y="139"/>
                  <a:pt x="386" y="135"/>
                  <a:pt x="379" y="129"/>
                </a:cubicBezTo>
                <a:cubicBezTo>
                  <a:pt x="369" y="121"/>
                  <a:pt x="362" y="109"/>
                  <a:pt x="353" y="101"/>
                </a:cubicBezTo>
                <a:cubicBezTo>
                  <a:pt x="349" y="98"/>
                  <a:pt x="344" y="96"/>
                  <a:pt x="341" y="93"/>
                </a:cubicBezTo>
                <a:cubicBezTo>
                  <a:pt x="326" y="78"/>
                  <a:pt x="334" y="84"/>
                  <a:pt x="317" y="73"/>
                </a:cubicBezTo>
                <a:cubicBezTo>
                  <a:pt x="315" y="72"/>
                  <a:pt x="311" y="69"/>
                  <a:pt x="311" y="69"/>
                </a:cubicBezTo>
                <a:cubicBezTo>
                  <a:pt x="301" y="55"/>
                  <a:pt x="280" y="47"/>
                  <a:pt x="263" y="43"/>
                </a:cubicBezTo>
                <a:cubicBezTo>
                  <a:pt x="249" y="34"/>
                  <a:pt x="231" y="33"/>
                  <a:pt x="215" y="27"/>
                </a:cubicBezTo>
                <a:cubicBezTo>
                  <a:pt x="168" y="9"/>
                  <a:pt x="122" y="5"/>
                  <a:pt x="71" y="3"/>
                </a:cubicBezTo>
                <a:cubicBezTo>
                  <a:pt x="62" y="1"/>
                  <a:pt x="65" y="0"/>
                  <a:pt x="59" y="3"/>
                </a:cubicBez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pic>
        <p:nvPicPr>
          <p:cNvPr id="73" name="Picture 8" descr="clock"/>
          <p:cNvPicPr/>
          <p:nvPr/>
        </p:nvPicPr>
        <p:blipFill>
          <a:blip r:embed="rId2"/>
          <a:stretch/>
        </p:blipFill>
        <p:spPr>
          <a:xfrm>
            <a:off x="2057400" y="3886200"/>
            <a:ext cx="1592280" cy="160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clock"/>
          <p:cNvPicPr/>
          <p:nvPr/>
        </p:nvPicPr>
        <p:blipFill>
          <a:blip r:embed="rId3"/>
          <a:stretch/>
        </p:blipFill>
        <p:spPr>
          <a:xfrm>
            <a:off x="5562720" y="3886200"/>
            <a:ext cx="1592280" cy="1600200"/>
          </a:xfrm>
          <a:prstGeom prst="rect">
            <a:avLst/>
          </a:prstGeom>
          <a:ln w="0">
            <a:noFill/>
          </a:ln>
        </p:spPr>
      </p:pic>
      <p:sp>
        <p:nvSpPr>
          <p:cNvPr id="75" name="Freeform 10"/>
          <p:cNvSpPr/>
          <p:nvPr/>
        </p:nvSpPr>
        <p:spPr>
          <a:xfrm>
            <a:off x="2743200" y="3962520"/>
            <a:ext cx="838080" cy="992160"/>
          </a:xfrm>
          <a:custGeom>
            <a:avLst/>
            <a:gdLst>
              <a:gd name="textAreaLeft" fmla="*/ 0 w 838080"/>
              <a:gd name="textAreaRight" fmla="*/ 838440 w 838080"/>
              <a:gd name="textAreaTop" fmla="*/ 0 h 992160"/>
              <a:gd name="textAreaBottom" fmla="*/ 992160 h 992160"/>
            </a:gdLst>
            <a:ahLst/>
            <a:rect l="textAreaLeft" t="textAreaTop" r="textAreaRight" b="textAreaBottom"/>
            <a:pathLst>
              <a:path w="531" h="594">
                <a:moveTo>
                  <a:pt x="59" y="3"/>
                </a:moveTo>
                <a:cubicBezTo>
                  <a:pt x="65" y="93"/>
                  <a:pt x="62" y="180"/>
                  <a:pt x="61" y="271"/>
                </a:cubicBezTo>
                <a:cubicBezTo>
                  <a:pt x="66" y="594"/>
                  <a:pt x="0" y="459"/>
                  <a:pt x="525" y="457"/>
                </a:cubicBezTo>
                <a:cubicBezTo>
                  <a:pt x="524" y="428"/>
                  <a:pt x="531" y="401"/>
                  <a:pt x="515" y="377"/>
                </a:cubicBezTo>
                <a:cubicBezTo>
                  <a:pt x="508" y="349"/>
                  <a:pt x="506" y="306"/>
                  <a:pt x="485" y="285"/>
                </a:cubicBezTo>
                <a:cubicBezTo>
                  <a:pt x="483" y="278"/>
                  <a:pt x="475" y="267"/>
                  <a:pt x="475" y="267"/>
                </a:cubicBezTo>
                <a:cubicBezTo>
                  <a:pt x="471" y="252"/>
                  <a:pt x="468" y="230"/>
                  <a:pt x="455" y="221"/>
                </a:cubicBezTo>
                <a:cubicBezTo>
                  <a:pt x="450" y="206"/>
                  <a:pt x="426" y="171"/>
                  <a:pt x="413" y="163"/>
                </a:cubicBezTo>
                <a:cubicBezTo>
                  <a:pt x="411" y="157"/>
                  <a:pt x="403" y="149"/>
                  <a:pt x="397" y="147"/>
                </a:cubicBezTo>
                <a:cubicBezTo>
                  <a:pt x="394" y="139"/>
                  <a:pt x="386" y="135"/>
                  <a:pt x="379" y="129"/>
                </a:cubicBezTo>
                <a:cubicBezTo>
                  <a:pt x="369" y="121"/>
                  <a:pt x="362" y="109"/>
                  <a:pt x="353" y="101"/>
                </a:cubicBezTo>
                <a:cubicBezTo>
                  <a:pt x="349" y="98"/>
                  <a:pt x="344" y="96"/>
                  <a:pt x="341" y="93"/>
                </a:cubicBezTo>
                <a:cubicBezTo>
                  <a:pt x="326" y="78"/>
                  <a:pt x="334" y="84"/>
                  <a:pt x="317" y="73"/>
                </a:cubicBezTo>
                <a:cubicBezTo>
                  <a:pt x="315" y="72"/>
                  <a:pt x="311" y="69"/>
                  <a:pt x="311" y="69"/>
                </a:cubicBezTo>
                <a:cubicBezTo>
                  <a:pt x="301" y="55"/>
                  <a:pt x="280" y="47"/>
                  <a:pt x="263" y="43"/>
                </a:cubicBezTo>
                <a:cubicBezTo>
                  <a:pt x="249" y="34"/>
                  <a:pt x="231" y="33"/>
                  <a:pt x="215" y="27"/>
                </a:cubicBezTo>
                <a:cubicBezTo>
                  <a:pt x="168" y="9"/>
                  <a:pt x="122" y="5"/>
                  <a:pt x="71" y="3"/>
                </a:cubicBezTo>
                <a:cubicBezTo>
                  <a:pt x="62" y="1"/>
                  <a:pt x="65" y="0"/>
                  <a:pt x="59" y="3"/>
                </a:cubicBezTo>
                <a:close/>
              </a:path>
            </a:pathLst>
          </a:custGeom>
          <a:solidFill>
            <a:srgbClr val="33cc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76" name="Freeform 11"/>
          <p:cNvSpPr/>
          <p:nvPr/>
        </p:nvSpPr>
        <p:spPr>
          <a:xfrm>
            <a:off x="6248520" y="3962520"/>
            <a:ext cx="838080" cy="992160"/>
          </a:xfrm>
          <a:custGeom>
            <a:avLst/>
            <a:gdLst>
              <a:gd name="textAreaLeft" fmla="*/ 0 w 838080"/>
              <a:gd name="textAreaRight" fmla="*/ 838440 w 838080"/>
              <a:gd name="textAreaTop" fmla="*/ 0 h 992160"/>
              <a:gd name="textAreaBottom" fmla="*/ 992160 h 992160"/>
            </a:gdLst>
            <a:ahLst/>
            <a:rect l="textAreaLeft" t="textAreaTop" r="textAreaRight" b="textAreaBottom"/>
            <a:pathLst>
              <a:path w="531" h="594">
                <a:moveTo>
                  <a:pt x="59" y="3"/>
                </a:moveTo>
                <a:cubicBezTo>
                  <a:pt x="65" y="93"/>
                  <a:pt x="62" y="180"/>
                  <a:pt x="61" y="271"/>
                </a:cubicBezTo>
                <a:cubicBezTo>
                  <a:pt x="66" y="594"/>
                  <a:pt x="0" y="459"/>
                  <a:pt x="525" y="457"/>
                </a:cubicBezTo>
                <a:cubicBezTo>
                  <a:pt x="524" y="428"/>
                  <a:pt x="531" y="401"/>
                  <a:pt x="515" y="377"/>
                </a:cubicBezTo>
                <a:cubicBezTo>
                  <a:pt x="508" y="349"/>
                  <a:pt x="506" y="306"/>
                  <a:pt x="485" y="285"/>
                </a:cubicBezTo>
                <a:cubicBezTo>
                  <a:pt x="483" y="278"/>
                  <a:pt x="475" y="267"/>
                  <a:pt x="475" y="267"/>
                </a:cubicBezTo>
                <a:cubicBezTo>
                  <a:pt x="471" y="252"/>
                  <a:pt x="468" y="230"/>
                  <a:pt x="455" y="221"/>
                </a:cubicBezTo>
                <a:cubicBezTo>
                  <a:pt x="450" y="206"/>
                  <a:pt x="426" y="171"/>
                  <a:pt x="413" y="163"/>
                </a:cubicBezTo>
                <a:cubicBezTo>
                  <a:pt x="411" y="157"/>
                  <a:pt x="403" y="149"/>
                  <a:pt x="397" y="147"/>
                </a:cubicBezTo>
                <a:cubicBezTo>
                  <a:pt x="394" y="139"/>
                  <a:pt x="386" y="135"/>
                  <a:pt x="379" y="129"/>
                </a:cubicBezTo>
                <a:cubicBezTo>
                  <a:pt x="369" y="121"/>
                  <a:pt x="362" y="109"/>
                  <a:pt x="353" y="101"/>
                </a:cubicBezTo>
                <a:cubicBezTo>
                  <a:pt x="349" y="98"/>
                  <a:pt x="344" y="96"/>
                  <a:pt x="341" y="93"/>
                </a:cubicBezTo>
                <a:cubicBezTo>
                  <a:pt x="326" y="78"/>
                  <a:pt x="334" y="84"/>
                  <a:pt x="317" y="73"/>
                </a:cubicBezTo>
                <a:cubicBezTo>
                  <a:pt x="315" y="72"/>
                  <a:pt x="311" y="69"/>
                  <a:pt x="311" y="69"/>
                </a:cubicBezTo>
                <a:cubicBezTo>
                  <a:pt x="301" y="55"/>
                  <a:pt x="280" y="47"/>
                  <a:pt x="263" y="43"/>
                </a:cubicBezTo>
                <a:cubicBezTo>
                  <a:pt x="249" y="34"/>
                  <a:pt x="231" y="33"/>
                  <a:pt x="215" y="27"/>
                </a:cubicBezTo>
                <a:cubicBezTo>
                  <a:pt x="168" y="9"/>
                  <a:pt x="122" y="5"/>
                  <a:pt x="71" y="3"/>
                </a:cubicBezTo>
                <a:cubicBezTo>
                  <a:pt x="62" y="1"/>
                  <a:pt x="65" y="0"/>
                  <a:pt x="59" y="3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77" name="Freeform 12"/>
          <p:cNvSpPr/>
          <p:nvPr/>
        </p:nvSpPr>
        <p:spPr>
          <a:xfrm rot="5524200">
            <a:off x="6207840" y="4537800"/>
            <a:ext cx="844560" cy="915840"/>
          </a:xfrm>
          <a:custGeom>
            <a:avLst/>
            <a:gdLst>
              <a:gd name="textAreaLeft" fmla="*/ 0 w 844560"/>
              <a:gd name="textAreaRight" fmla="*/ 844920 w 84456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w="531" h="594">
                <a:moveTo>
                  <a:pt x="59" y="3"/>
                </a:moveTo>
                <a:cubicBezTo>
                  <a:pt x="65" y="93"/>
                  <a:pt x="62" y="180"/>
                  <a:pt x="61" y="271"/>
                </a:cubicBezTo>
                <a:cubicBezTo>
                  <a:pt x="66" y="594"/>
                  <a:pt x="0" y="459"/>
                  <a:pt x="525" y="457"/>
                </a:cubicBezTo>
                <a:cubicBezTo>
                  <a:pt x="524" y="428"/>
                  <a:pt x="531" y="401"/>
                  <a:pt x="515" y="377"/>
                </a:cubicBezTo>
                <a:cubicBezTo>
                  <a:pt x="508" y="349"/>
                  <a:pt x="506" y="306"/>
                  <a:pt x="485" y="285"/>
                </a:cubicBezTo>
                <a:cubicBezTo>
                  <a:pt x="483" y="278"/>
                  <a:pt x="475" y="267"/>
                  <a:pt x="475" y="267"/>
                </a:cubicBezTo>
                <a:cubicBezTo>
                  <a:pt x="471" y="252"/>
                  <a:pt x="468" y="230"/>
                  <a:pt x="455" y="221"/>
                </a:cubicBezTo>
                <a:cubicBezTo>
                  <a:pt x="450" y="206"/>
                  <a:pt x="426" y="171"/>
                  <a:pt x="413" y="163"/>
                </a:cubicBezTo>
                <a:cubicBezTo>
                  <a:pt x="411" y="157"/>
                  <a:pt x="403" y="149"/>
                  <a:pt x="397" y="147"/>
                </a:cubicBezTo>
                <a:cubicBezTo>
                  <a:pt x="394" y="139"/>
                  <a:pt x="386" y="135"/>
                  <a:pt x="379" y="129"/>
                </a:cubicBezTo>
                <a:cubicBezTo>
                  <a:pt x="369" y="121"/>
                  <a:pt x="362" y="109"/>
                  <a:pt x="353" y="101"/>
                </a:cubicBezTo>
                <a:cubicBezTo>
                  <a:pt x="349" y="98"/>
                  <a:pt x="344" y="96"/>
                  <a:pt x="341" y="93"/>
                </a:cubicBezTo>
                <a:cubicBezTo>
                  <a:pt x="326" y="78"/>
                  <a:pt x="334" y="84"/>
                  <a:pt x="317" y="73"/>
                </a:cubicBezTo>
                <a:cubicBezTo>
                  <a:pt x="315" y="72"/>
                  <a:pt x="311" y="69"/>
                  <a:pt x="311" y="69"/>
                </a:cubicBezTo>
                <a:cubicBezTo>
                  <a:pt x="301" y="55"/>
                  <a:pt x="280" y="47"/>
                  <a:pt x="263" y="43"/>
                </a:cubicBezTo>
                <a:cubicBezTo>
                  <a:pt x="249" y="34"/>
                  <a:pt x="231" y="33"/>
                  <a:pt x="215" y="27"/>
                </a:cubicBezTo>
                <a:cubicBezTo>
                  <a:pt x="168" y="9"/>
                  <a:pt x="122" y="5"/>
                  <a:pt x="71" y="3"/>
                </a:cubicBezTo>
                <a:cubicBezTo>
                  <a:pt x="62" y="1"/>
                  <a:pt x="65" y="0"/>
                  <a:pt x="59" y="3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78" name="Freeform 13"/>
          <p:cNvSpPr/>
          <p:nvPr/>
        </p:nvSpPr>
        <p:spPr>
          <a:xfrm>
            <a:off x="6026040" y="4695840"/>
            <a:ext cx="373320" cy="741240"/>
          </a:xfrm>
          <a:custGeom>
            <a:avLst/>
            <a:gdLst>
              <a:gd name="textAreaLeft" fmla="*/ 0 w 373320"/>
              <a:gd name="textAreaRight" fmla="*/ 373680 w 37332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235" h="467">
                <a:moveTo>
                  <a:pt x="196" y="0"/>
                </a:moveTo>
                <a:cubicBezTo>
                  <a:pt x="191" y="27"/>
                  <a:pt x="171" y="51"/>
                  <a:pt x="160" y="76"/>
                </a:cubicBezTo>
                <a:cubicBezTo>
                  <a:pt x="154" y="89"/>
                  <a:pt x="152" y="102"/>
                  <a:pt x="142" y="112"/>
                </a:cubicBezTo>
                <a:cubicBezTo>
                  <a:pt x="135" y="134"/>
                  <a:pt x="121" y="158"/>
                  <a:pt x="108" y="178"/>
                </a:cubicBezTo>
                <a:cubicBezTo>
                  <a:pt x="99" y="191"/>
                  <a:pt x="97" y="207"/>
                  <a:pt x="88" y="220"/>
                </a:cubicBezTo>
                <a:cubicBezTo>
                  <a:pt x="81" y="250"/>
                  <a:pt x="63" y="275"/>
                  <a:pt x="46" y="300"/>
                </a:cubicBezTo>
                <a:cubicBezTo>
                  <a:pt x="41" y="308"/>
                  <a:pt x="39" y="323"/>
                  <a:pt x="36" y="332"/>
                </a:cubicBezTo>
                <a:cubicBezTo>
                  <a:pt x="31" y="346"/>
                  <a:pt x="18" y="370"/>
                  <a:pt x="8" y="380"/>
                </a:cubicBezTo>
                <a:cubicBezTo>
                  <a:pt x="6" y="385"/>
                  <a:pt x="0" y="396"/>
                  <a:pt x="6" y="402"/>
                </a:cubicBezTo>
                <a:cubicBezTo>
                  <a:pt x="11" y="407"/>
                  <a:pt x="24" y="406"/>
                  <a:pt x="30" y="410"/>
                </a:cubicBezTo>
                <a:cubicBezTo>
                  <a:pt x="53" y="425"/>
                  <a:pt x="102" y="441"/>
                  <a:pt x="130" y="444"/>
                </a:cubicBezTo>
                <a:cubicBezTo>
                  <a:pt x="140" y="449"/>
                  <a:pt x="146" y="450"/>
                  <a:pt x="158" y="452"/>
                </a:cubicBezTo>
                <a:cubicBezTo>
                  <a:pt x="211" y="450"/>
                  <a:pt x="224" y="467"/>
                  <a:pt x="230" y="428"/>
                </a:cubicBezTo>
                <a:cubicBezTo>
                  <a:pt x="231" y="345"/>
                  <a:pt x="235" y="266"/>
                  <a:pt x="226" y="184"/>
                </a:cubicBezTo>
                <a:cubicBezTo>
                  <a:pt x="225" y="132"/>
                  <a:pt x="225" y="80"/>
                  <a:pt x="224" y="28"/>
                </a:cubicBezTo>
                <a:cubicBezTo>
                  <a:pt x="224" y="12"/>
                  <a:pt x="211" y="0"/>
                  <a:pt x="196" y="0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79" name="AutoShape 14"/>
          <p:cNvSpPr/>
          <p:nvPr/>
        </p:nvSpPr>
        <p:spPr>
          <a:xfrm rot="5211600">
            <a:off x="6092280" y="4419360"/>
            <a:ext cx="533160" cy="533160"/>
          </a:xfrm>
          <a:custGeom>
            <a:avLst/>
            <a:gdLst>
              <a:gd name="textAreaLeft" fmla="*/ 78120 w 533160"/>
              <a:gd name="textAreaRight" fmla="*/ 455040 w 533160"/>
              <a:gd name="textAreaTop" fmla="*/ 78120 h 533160"/>
              <a:gd name="textAreaBottom" fmla="*/ 45504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80" name="AutoShape 15"/>
          <p:cNvSpPr/>
          <p:nvPr/>
        </p:nvSpPr>
        <p:spPr>
          <a:xfrm rot="19423800">
            <a:off x="2666520" y="4267080"/>
            <a:ext cx="533520" cy="533520"/>
          </a:xfrm>
          <a:custGeom>
            <a:avLst/>
            <a:gdLst>
              <a:gd name="textAreaLeft" fmla="*/ 78120 w 533520"/>
              <a:gd name="textAreaRight" fmla="*/ 455400 w 533520"/>
              <a:gd name="textAreaTop" fmla="*/ 78120 h 533520"/>
              <a:gd name="textAreaBottom" fmla="*/ 455400 h 533520"/>
            </a:gdLst>
            <a:ahLst/>
            <a:rect l="textAreaLeft" t="textAreaTop" r="textAreaRight" b="textAreaBottom"/>
            <a:pathLst>
              <a:path w="21600" h="21600">
                <a:moveTo>
                  <a:pt x="14727" y="14298"/>
                </a:moveTo>
                <a:cubicBezTo>
                  <a:pt x="15585" y="13335"/>
                  <a:pt x="16060" y="12090"/>
                  <a:pt x="16060" y="10800"/>
                </a:cubicBezTo>
                <a:cubicBezTo>
                  <a:pt x="16060" y="8663"/>
                  <a:pt x="14767" y="6738"/>
                  <a:pt x="12789" y="5930"/>
                </a:cubicBezTo>
                <a:lnTo>
                  <a:pt x="14884" y="802"/>
                </a:lnTo>
                <a:cubicBezTo>
                  <a:pt x="18945" y="2461"/>
                  <a:pt x="21600" y="6412"/>
                  <a:pt x="21600" y="10800"/>
                </a:cubicBezTo>
                <a:cubicBezTo>
                  <a:pt x="21600" y="13449"/>
                  <a:pt x="20626" y="16005"/>
                  <a:pt x="18864" y="17983"/>
                </a:cubicBezTo>
                <a:lnTo>
                  <a:pt x="20880" y="19779"/>
                </a:lnTo>
                <a:lnTo>
                  <a:pt x="13157" y="20226"/>
                </a:lnTo>
                <a:lnTo>
                  <a:pt x="12711" y="12502"/>
                </a:lnTo>
                <a:lnTo>
                  <a:pt x="14727" y="14298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81" name="AutoShape 16"/>
          <p:cNvSpPr/>
          <p:nvPr/>
        </p:nvSpPr>
        <p:spPr>
          <a:xfrm rot="5560200">
            <a:off x="4419360" y="4419360"/>
            <a:ext cx="533160" cy="533160"/>
          </a:xfrm>
          <a:custGeom>
            <a:avLst/>
            <a:gdLst>
              <a:gd name="textAreaLeft" fmla="*/ 78120 w 533160"/>
              <a:gd name="textAreaRight" fmla="*/ 455040 w 533160"/>
              <a:gd name="textAreaTop" fmla="*/ 78120 h 533160"/>
              <a:gd name="textAreaBottom" fmla="*/ 455040 h 533160"/>
            </a:gdLst>
            <a:ahLst/>
            <a:rect l="textAreaLeft" t="textAreaTop" r="textAreaRight" b="textAreaBottom"/>
            <a:pathLst>
              <a:path w="21600" h="21600">
                <a:moveTo>
                  <a:pt x="16271" y="8460"/>
                </a:moveTo>
                <a:cubicBezTo>
                  <a:pt x="15335" y="6269"/>
                  <a:pt x="13182" y="4849"/>
                  <a:pt x="10800" y="4849"/>
                </a:cubicBezTo>
                <a:cubicBezTo>
                  <a:pt x="7513" y="4849"/>
                  <a:pt x="4849" y="7513"/>
                  <a:pt x="4849" y="10800"/>
                </a:cubicBezTo>
                <a:cubicBezTo>
                  <a:pt x="4848" y="11262"/>
                  <a:pt x="4903" y="11724"/>
                  <a:pt x="5009" y="12174"/>
                </a:cubicBezTo>
                <a:lnTo>
                  <a:pt x="292" y="13294"/>
                </a:lnTo>
                <a:cubicBezTo>
                  <a:pt x="98" y="12477"/>
                  <a:pt x="0" y="11640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5123" y="-1"/>
                  <a:pt x="19030" y="2578"/>
                  <a:pt x="20730" y="6553"/>
                </a:cubicBezTo>
                <a:lnTo>
                  <a:pt x="23212" y="5491"/>
                </a:lnTo>
                <a:lnTo>
                  <a:pt x="20516" y="12218"/>
                </a:lnTo>
                <a:lnTo>
                  <a:pt x="13789" y="9521"/>
                </a:lnTo>
                <a:lnTo>
                  <a:pt x="16271" y="846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82" name="Rectangle 17"/>
          <p:cNvSpPr/>
          <p:nvPr/>
        </p:nvSpPr>
        <p:spPr>
          <a:xfrm>
            <a:off x="2291400" y="54878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ипичне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83" name="Rectangle 18"/>
          <p:cNvSpPr/>
          <p:nvPr/>
        </p:nvSpPr>
        <p:spPr>
          <a:xfrm>
            <a:off x="3965400" y="548784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типичне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5791320" y="548784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тус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2044440" y="-720"/>
            <a:ext cx="52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КЛАСИФИКАЦИЈА ФК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62120" y="1060560"/>
          <a:ext cx="7772400" cy="4875120"/>
        </p:xfrm>
        <a:graphic>
          <a:graphicData uri="http://schemas.openxmlformats.org/drawingml/2006/table">
            <a:tbl>
              <a:tblPr/>
              <a:tblGrid>
                <a:gridCol w="2247840"/>
                <a:gridCol w="2820960"/>
                <a:gridCol w="270360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ЛЕЖ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ИЧ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ИПИЧ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узра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д 6 месеци до 5 го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е 6 месеци и после 5 го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тип напа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генерализовани нап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арцијални (фокал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трајање напа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15 м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уже од 15 мину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број напа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један у току исте фебри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2 или више у току исте феб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претходни подац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ез оштећења ЦНС-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течене лезије ЦН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клинички стат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редан пре напа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ПМ, ДЦО пре првог напа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постиктуални стат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oper Bold YU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з опоравак и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а сомноленц. и конфу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oper Bold YU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ији опорава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одд-ова парализ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2240">
                      <a:solidFill>
                        <a:srgbClr val="ffffcc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ЕЕГ нал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cc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ормалан интериктал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змењен, претходна лез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рециди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е више од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3 и виш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учестал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8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породична анамне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.о. или подаци о типичним Ф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јава атипичних ФК и ЕП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oper Bold YU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2"/>
          <p:cNvSpPr/>
          <p:nvPr/>
        </p:nvSpPr>
        <p:spPr>
          <a:xfrm>
            <a:off x="1508760" y="380520"/>
            <a:ext cx="62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ИСПИТИВАЊА НАКОН ФК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88" name="Rectangle 63"/>
          <p:cNvSpPr/>
          <p:nvPr/>
        </p:nvSpPr>
        <p:spPr>
          <a:xfrm>
            <a:off x="609480" y="1802520"/>
            <a:ext cx="8229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ККС и урин (Ле могу указати на узрок т)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35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Хемокултура (ако је т&gt;400Ц, СЕ&gt;30, Ле&gt;15000)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35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Гликемија (хипогликемија као узрок конвулзија)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35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Уреја (повећање је преципитирајући фактор за напад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35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Електролити серума (само у случају фебрилног епи статуса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и напада који рецидивирају у 24сата, јер</a:t>
            </a:r>
            <a:r>
              <a:rPr b="1" lang="sr-CS" sz="20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је један од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узрока рецидива хипонатремија)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35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ЛП (ако за то постоје индикације)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35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ЕЕГ (индикован је код деце са лезијама ЦНС-а)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35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Фоу (измењен само код тежих лезија мозга)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437760" y="1672560"/>
            <a:ext cx="869076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ЕЕГ током прве недеље након напад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- нормалан налаз у 50-71% деце (Роџер 1985.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- спора активност најчешће обострана у 20-33%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- епилептиформна пражњења (ШТК) су ретка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ЕЕГ налази непосредно после ФК не могу да служе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- као прогностички фактор за каснију ЕПИ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- нити су битан критеријум за профилаксу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(Марјановић 1997., Мартиновић 1997.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170880" y="304200"/>
            <a:ext cx="30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ЕЕГ НАЛАЗИ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1963800" y="380520"/>
            <a:ext cx="52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АКУТНА ТЕРАПИЈА ФК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23720" y="1748520"/>
            <a:ext cx="8727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90% напада кратко траје и спонтано пролази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напади који трају дуже од 30 минута могу оштетити мозак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oper Bold YU"/>
              </a:rPr>
              <a:t>W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алас 1988.)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пре примене медикамената треба: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- обезбедити проходне дисајне путеве (залогај, играчка)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- дете у бочни положај са главом ниже од тела (аспирација)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- расхлађивање (кућа или диспанзер)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примена бензодијазепинских препарата (ректално, или и.м)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у случају неефикасности лекова хитан транспорт у установу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у којој се лечи епилептични статус и спроводи реанимација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1969560" y="456840"/>
            <a:ext cx="541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ТЕРАПИЈА НАПАДА ФК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596880" y="1825200"/>
            <a:ext cx="89535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ДИАЗЕПАМ ректално 0,5мг/кг (клизма или раствор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одржавање пролазности дисајних путев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расхлађивање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ако напад не престаје: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Фенобарбитон и.в. 20мг/кг (брз. од 1мг/кг/мин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Фенитоин и.в. 15-20мг/кг (брз. од 1мг/кг/мин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Манитол 20% и.в. 0,5г/кг (антиедематозна терапија</a:t>
            </a: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633240" y="1146960"/>
            <a:ext cx="8510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У кућним и диспанзерским условима најрационалнија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је ректална примена лека, тзв.”непрофесионална ив линија”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(Кнудсен 1988.)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ДИАЗЕПАМ ректално 0,5мг/кг 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- максимална појединачна доза 20мг (Гравес 1987.)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- после клизме терапијски ниво у крви за 5ж2 минута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- а одржава се током следећих 6ж3 часа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969560" y="182160"/>
            <a:ext cx="541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ТЕРАПИЈА НАПАДА ФК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НА ТЕРЕНУ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pic>
        <p:nvPicPr>
          <p:cNvPr id="97" name="Picture 5" descr="diazrett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819520" y="4724280"/>
            <a:ext cx="3200400" cy="18781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98" name="Rectangle 6"/>
          <p:cNvSpPr/>
          <p:nvPr/>
        </p:nvSpPr>
        <p:spPr>
          <a:xfrm>
            <a:off x="3756600" y="6172200"/>
            <a:ext cx="843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old YU"/>
                <a:ea typeface="Times New Roman"/>
              </a:rPr>
              <a:t>5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ин</a:t>
            </a:r>
            <a:r>
              <a:rPr b="0" lang="en-US" sz="1800" spc="-1" strike="noStrike">
                <a:solidFill>
                  <a:srgbClr val="000000"/>
                </a:solidFill>
                <a:latin typeface="Cooper Bold YU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4114800" y="5410080"/>
            <a:ext cx="1295280" cy="62244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816" h="392">
                <a:moveTo>
                  <a:pt x="0" y="384"/>
                </a:moveTo>
                <a:cubicBezTo>
                  <a:pt x="84" y="388"/>
                  <a:pt x="168" y="392"/>
                  <a:pt x="240" y="384"/>
                </a:cubicBezTo>
                <a:cubicBezTo>
                  <a:pt x="312" y="376"/>
                  <a:pt x="384" y="360"/>
                  <a:pt x="432" y="336"/>
                </a:cubicBezTo>
                <a:cubicBezTo>
                  <a:pt x="480" y="312"/>
                  <a:pt x="496" y="280"/>
                  <a:pt x="528" y="240"/>
                </a:cubicBezTo>
                <a:cubicBezTo>
                  <a:pt x="560" y="200"/>
                  <a:pt x="576" y="136"/>
                  <a:pt x="624" y="96"/>
                </a:cubicBezTo>
                <a:cubicBezTo>
                  <a:pt x="672" y="56"/>
                  <a:pt x="792" y="16"/>
                  <a:pt x="816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969560" y="182160"/>
            <a:ext cx="541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ТЕРАПИЈА НАПАДА ФК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НА ТЕРЕНУ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685800" y="1597320"/>
            <a:ext cx="82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МИДАЗОЛАМ (ФЛОРМИДАЛ) и.м. 0,2мг/кг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- максимална појединачна доза 5мг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- после и.м. или и.в. примене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терапијски ниво за 1,5-5 минут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- антиконвулзивни ефекат траје 1-5 часов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  <p:pic>
        <p:nvPicPr>
          <p:cNvPr id="102" name="Picture 6" descr="diazrett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819520" y="4800600"/>
            <a:ext cx="3200400" cy="18781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03" name="Rectangle 7"/>
          <p:cNvSpPr/>
          <p:nvPr/>
        </p:nvSpPr>
        <p:spPr>
          <a:xfrm>
            <a:off x="3720240" y="6248520"/>
            <a:ext cx="12398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old YU"/>
                <a:ea typeface="Times New Roman"/>
              </a:rPr>
              <a:t>1,5-5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ин</a:t>
            </a:r>
            <a:r>
              <a:rPr b="0" lang="en-US" sz="1800" spc="-1" strike="noStrike">
                <a:solidFill>
                  <a:srgbClr val="000000"/>
                </a:solidFill>
                <a:latin typeface="Cooper Bold YU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04" name="Freeform 8"/>
          <p:cNvSpPr/>
          <p:nvPr/>
        </p:nvSpPr>
        <p:spPr>
          <a:xfrm>
            <a:off x="4191120" y="5486400"/>
            <a:ext cx="1218960" cy="685800"/>
          </a:xfrm>
          <a:custGeom>
            <a:avLst/>
            <a:gdLst>
              <a:gd name="textAreaLeft" fmla="*/ 0 w 1218960"/>
              <a:gd name="textAreaRight" fmla="*/ 1218960 w 12189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816" h="392">
                <a:moveTo>
                  <a:pt x="0" y="384"/>
                </a:moveTo>
                <a:cubicBezTo>
                  <a:pt x="84" y="388"/>
                  <a:pt x="168" y="392"/>
                  <a:pt x="240" y="384"/>
                </a:cubicBezTo>
                <a:cubicBezTo>
                  <a:pt x="312" y="376"/>
                  <a:pt x="384" y="360"/>
                  <a:pt x="432" y="336"/>
                </a:cubicBezTo>
                <a:cubicBezTo>
                  <a:pt x="480" y="312"/>
                  <a:pt x="496" y="280"/>
                  <a:pt x="528" y="240"/>
                </a:cubicBezTo>
                <a:cubicBezTo>
                  <a:pt x="560" y="200"/>
                  <a:pt x="576" y="136"/>
                  <a:pt x="624" y="96"/>
                </a:cubicBezTo>
                <a:cubicBezTo>
                  <a:pt x="672" y="56"/>
                  <a:pt x="792" y="16"/>
                  <a:pt x="816" y="0"/>
                </a:cubicBezTo>
              </a:path>
            </a:pathLst>
          </a:custGeom>
          <a:noFill/>
          <a:ln w="57240">
            <a:solidFill>
              <a:srgbClr val="00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05" name="Rectangle 9"/>
          <p:cNvSpPr/>
          <p:nvPr/>
        </p:nvSpPr>
        <p:spPr>
          <a:xfrm rot="19543800">
            <a:off x="3809880" y="5562720"/>
            <a:ext cx="7632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06" name="Line 10"/>
          <p:cNvSpPr/>
          <p:nvPr/>
        </p:nvSpPr>
        <p:spPr>
          <a:xfrm>
            <a:off x="3962520" y="5943600"/>
            <a:ext cx="152280" cy="228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1969560" y="182160"/>
            <a:ext cx="541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ТЕРАПИЈА НАПАДА ФК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БОЛНИЧК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304920" y="1828800"/>
            <a:ext cx="8534160" cy="2209680"/>
          </a:xfrm>
          <a:prstGeom prst="flowChartAlternateProcess">
            <a:avLst/>
          </a:prstGeom>
          <a:solidFill>
            <a:srgbClr val="ffffff"/>
          </a:solidFill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1435680" y="4954680"/>
            <a:ext cx="12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.в.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на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</p:txBody>
      </p:sp>
      <p:pic>
        <p:nvPicPr>
          <p:cNvPr id="110" name="Picture 14" descr="IV dete ok"/>
          <p:cNvPicPr/>
          <p:nvPr/>
        </p:nvPicPr>
        <p:blipFill>
          <a:blip r:embed="rId1"/>
          <a:stretch/>
        </p:blipFill>
        <p:spPr>
          <a:xfrm>
            <a:off x="2895480" y="4419720"/>
            <a:ext cx="4140360" cy="180324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111" name="Freeform 15"/>
          <p:cNvSpPr/>
          <p:nvPr/>
        </p:nvSpPr>
        <p:spPr>
          <a:xfrm>
            <a:off x="5283360" y="4952880"/>
            <a:ext cx="355320" cy="990720"/>
          </a:xfrm>
          <a:custGeom>
            <a:avLst/>
            <a:gdLst>
              <a:gd name="textAreaLeft" fmla="*/ 0 w 355320"/>
              <a:gd name="textAreaRight" fmla="*/ 355680 w 355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24" h="624">
                <a:moveTo>
                  <a:pt x="224" y="624"/>
                </a:moveTo>
                <a:cubicBezTo>
                  <a:pt x="144" y="544"/>
                  <a:pt x="64" y="464"/>
                  <a:pt x="32" y="384"/>
                </a:cubicBezTo>
                <a:cubicBezTo>
                  <a:pt x="0" y="304"/>
                  <a:pt x="8" y="208"/>
                  <a:pt x="32" y="144"/>
                </a:cubicBezTo>
                <a:cubicBezTo>
                  <a:pt x="56" y="80"/>
                  <a:pt x="116" y="40"/>
                  <a:pt x="17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3886200" y="6324480"/>
            <a:ext cx="27432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лико секунди</a:t>
            </a:r>
            <a:endParaRPr b="0" lang="en-US" sz="18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304920" y="1981080"/>
            <a:ext cx="868680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Cooper Bold YU"/>
                <a:ea typeface="Times New Roman"/>
              </a:rPr>
              <a:t>Д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АЗЕПАМ</a:t>
            </a:r>
            <a:r>
              <a:rPr b="0" lang="en-US" sz="2400" spc="-1" strike="noStrike">
                <a:solidFill>
                  <a:srgbClr val="000000"/>
                </a:solidFill>
                <a:latin typeface="Cooper Bold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.в.</a:t>
            </a:r>
            <a:r>
              <a:rPr b="0" lang="en-US" sz="2400" spc="-1" strike="noStrike">
                <a:solidFill>
                  <a:srgbClr val="000000"/>
                </a:solidFill>
                <a:latin typeface="Cooper Bold YU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oper Bold YU"/>
                <a:ea typeface="Times New Roman"/>
              </a:rPr>
              <a:t>- 0,25mg/kg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четна доза</a:t>
            </a:r>
            <a:r>
              <a:rPr b="0" lang="en-US" sz="2400" spc="-1" strike="noStrike">
                <a:solidFill>
                  <a:srgbClr val="000000"/>
                </a:solidFill>
                <a:latin typeface="Cooper Bold YU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новити за</a:t>
            </a:r>
            <a:r>
              <a:rPr b="0" lang="en-US" sz="2400" spc="-1" strike="noStrike">
                <a:solidFill>
                  <a:srgbClr val="000000"/>
                </a:solidFill>
                <a:latin typeface="Cooper Bold YU"/>
                <a:ea typeface="Times New Roman"/>
              </a:rPr>
              <a:t> 10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ин</a:t>
            </a:r>
            <a:r>
              <a:rPr b="0" lang="en-US" sz="2400" spc="-1" strike="noStrike">
                <a:solidFill>
                  <a:srgbClr val="000000"/>
                </a:solidFill>
                <a:latin typeface="Cooper Bold YU"/>
                <a:ea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old YU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oper Bold YU"/>
                <a:ea typeface="Times New Roman"/>
              </a:rPr>
              <a:t>- 0,40mg/kg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ко напад не прође за</a:t>
            </a:r>
            <a:r>
              <a:rPr b="0" lang="en-US" sz="2400" spc="-1" strike="noStrike">
                <a:solidFill>
                  <a:srgbClr val="000000"/>
                </a:solidFill>
                <a:latin typeface="Cooper Bold YU"/>
                <a:ea typeface="Times New Roman"/>
              </a:rPr>
              <a:t> 10-15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ин</a:t>
            </a:r>
            <a:r>
              <a:rPr b="0" lang="en-US" sz="2400" spc="-1" strike="noStrike">
                <a:solidFill>
                  <a:srgbClr val="000000"/>
                </a:solidFill>
                <a:latin typeface="Cooper Bold YU"/>
                <a:ea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old YU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oper Bold YU"/>
                <a:ea typeface="Times New Roman"/>
              </a:rPr>
              <a:t>- 0,50mg/kg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нити друге лекове</a:t>
            </a:r>
            <a:r>
              <a:rPr b="0" lang="en-US" sz="2400" spc="-1" strike="noStrike">
                <a:solidFill>
                  <a:srgbClr val="000000"/>
                </a:solidFill>
                <a:latin typeface="Cooper Bold YU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old YU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oper Bold YU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oper Bold YU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oper Bold YU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oper Bold YU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oper Bold YU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рјановић</a:t>
            </a:r>
            <a:r>
              <a:rPr b="0" lang="en-US" sz="2400" spc="-1" strike="noStrike">
                <a:solidFill>
                  <a:srgbClr val="000000"/>
                </a:solidFill>
                <a:latin typeface="Cooper Bold YU"/>
                <a:ea typeface="Times New Roman"/>
              </a:rPr>
              <a:t> 1997.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1405800" y="456840"/>
            <a:ext cx="70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ПРОФИЛАКСА РЕЦИДИВА ФК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304920" y="1604160"/>
            <a:ext cx="98946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oper Bold YU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ooper Bold YU"/>
              </a:rPr>
              <a:t>ФК треба превенирати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 посебно код деце са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великим ризиком од рецидива и појаве 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комплексних напад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На овај начин се смањује ризик од лезије ЦНС-а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и каснијих секвела: епилепсије, менталне 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ратардације, хемиплегије, као и смрт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2874240" y="30420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ДЕФИНИЦИЈ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62120" y="173628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Фебрилне конвулзије су напади губитка свести настали при повишеној температури у току акутних инфекција које примарно не захватају централни нервни систем. 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457200" y="1828800"/>
            <a:ext cx="8305920" cy="2971800"/>
          </a:xfrm>
          <a:prstGeom prst="flowChartAlternateProcess">
            <a:avLst/>
          </a:prstGeom>
          <a:noFill/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457200" y="1748520"/>
            <a:ext cx="830592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1. Интермитентна – Диазепамом (Марјановић 1993.)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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даје се код повишене тт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380Ц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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начин примене и дозе: 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*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ooper Bold YU"/>
              </a:rPr>
              <a:t>ректално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(раствор, клизма, супозиторије)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2. Континуирана – Фенобарбитоном или На-валпроатом 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45000"/>
              </a:lnSpc>
              <a:buClr>
                <a:srgbClr val="000000"/>
              </a:buClr>
              <a:buFont typeface="Symbol" charset="2"/>
              <a:buChar char="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даје се свакодневно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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начин примене и дозе: 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*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ooper Bold YU"/>
              </a:rPr>
              <a:t>перорално</a:t>
            </a:r>
            <a:r>
              <a:rPr b="1" lang="ru-RU" sz="2000" spc="-1" strike="noStrike">
                <a:solidFill>
                  <a:srgbClr val="000000"/>
                </a:solidFill>
                <a:latin typeface="Cooper Bold YU"/>
              </a:rPr>
              <a:t> (таблете или сируп)</a:t>
            </a:r>
            <a:endParaRPr b="0" lang="en-US" sz="20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405800" y="456840"/>
            <a:ext cx="70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ПРОФИЛАКСА РЕЦИДИВА ФК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372240" y="1977120"/>
            <a:ext cx="8818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Профилакса рецидива ФК се спроводи у трајању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од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oper Bold YU"/>
              </a:rPr>
              <a:t>30 месеци од првог напада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(Фисхман 1979.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Последњих деценија постоји тенденција скраћивањ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овог периода н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oper Bold YU"/>
              </a:rPr>
              <a:t>12 до 18 месеци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ил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oper Bold YU"/>
              </a:rPr>
              <a:t>до краја 3. год.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живота (Кнудсен 1989.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Постоји и мишљење да профилакса треба да траје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oper Bold YU"/>
              </a:rPr>
              <a:t>18 месеци после последњег напада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или најдаље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oper Bold YU"/>
              </a:rPr>
              <a:t>до 6. године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живота (Мартиновић 1997.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573920" y="456840"/>
            <a:ext cx="56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ТРАЈАЊЕ ПРОФИЛАКСЕ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1986120" y="-720"/>
            <a:ext cx="56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ПРОГНОЗА ДЕЦЕ СА ФК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5800" y="590040"/>
            <a:ext cx="80470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oper Bold YU"/>
              </a:rPr>
              <a:t>Ризик од смртног исхода током напада ФК је мањи од 1%, ако се искључе инфламаторне и васкуларне болести мозга</a:t>
            </a:r>
            <a:endParaRPr b="0" lang="en-US" sz="1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oper Bold YU"/>
              </a:rPr>
              <a:t>Ризик од епилепсије код деце са ФК је 2-5% а ризик од појаве </a:t>
            </a:r>
            <a:r>
              <a:rPr b="0" lang="ru-RU" sz="1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oper Bold YU"/>
              </a:rPr>
              <a:t>афебрилних напада</a:t>
            </a:r>
            <a:r>
              <a:rPr b="0" lang="ru-RU" sz="1800" spc="-1" strike="noStrike">
                <a:solidFill>
                  <a:srgbClr val="000000"/>
                </a:solidFill>
                <a:latin typeface="Cooper Bold YU"/>
              </a:rPr>
              <a:t> је 7% (до 25. г.)</a:t>
            </a:r>
            <a:endParaRPr b="0" lang="en-US" sz="1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oper Bold YU"/>
              </a:rPr>
              <a:t>*Ризик од ЕПИ је 2-10 пута већи код деце са ФК, него</a:t>
            </a:r>
            <a:endParaRPr b="0" lang="en-US" sz="1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oper Bold YU"/>
              </a:rPr>
              <a:t>код деце у општој популацији (Екарди 1986.)</a:t>
            </a:r>
            <a:endParaRPr b="0" lang="en-US" sz="1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oper Bold YU"/>
              </a:rPr>
              <a:t>Ризик од менталне ретардације углавном је везан</a:t>
            </a:r>
            <a:endParaRPr b="0" lang="en-US" sz="1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oper Bold YU"/>
              </a:rPr>
              <a:t>за атипичне нападе ФК (35% деце с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oper Bold YU"/>
              </a:rPr>
              <a:t>десностраним</a:t>
            </a:r>
            <a:endParaRPr b="0" lang="en-US" sz="1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oper Bold YU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oper Bold YU"/>
              </a:rPr>
              <a:t>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oper Bold YU"/>
              </a:rPr>
              <a:t>продуженим нападима</a:t>
            </a:r>
            <a:r>
              <a:rPr b="0" lang="ru-RU" sz="1800" spc="-1" strike="noStrike">
                <a:solidFill>
                  <a:srgbClr val="000000"/>
                </a:solidFill>
                <a:latin typeface="Cooper Bold YU"/>
              </a:rPr>
              <a:t> – Хопкинс 1995.)</a:t>
            </a:r>
            <a:endParaRPr b="0" lang="en-US" sz="1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oper Bold YU"/>
              </a:rPr>
              <a:t>*Ментална ретардација се јавља у 6-18% деце </a:t>
            </a:r>
            <a:endParaRPr b="0" lang="en-US" sz="1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oper Bold YU"/>
              </a:rPr>
              <a:t>- сметње у развоју говора</a:t>
            </a:r>
            <a:endParaRPr b="0" lang="en-US" sz="1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oper Bold YU"/>
              </a:rPr>
              <a:t>- проблеми са читањем</a:t>
            </a:r>
            <a:endParaRPr b="0" lang="en-US" sz="1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oper Bold YU"/>
              </a:rPr>
              <a:t>- невербално (логично) памћење</a:t>
            </a:r>
            <a:endParaRPr b="0" lang="en-US" sz="1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oper Bold YU"/>
              </a:rPr>
              <a:t>Ризик од неуролошких секвела углавном је везан за атипичне   нападе ФК (рана појава, комплексни (Аицарди 1976.)</a:t>
            </a:r>
            <a:endParaRPr b="0" lang="en-US" sz="1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oper Bold YU"/>
              </a:rPr>
              <a:t>*Трајна неурол. оштећења се јављају у 3-4% деце (Верит</a:t>
            </a:r>
            <a:r>
              <a:rPr b="0" lang="en-US" sz="1800" spc="-1" strike="noStrike">
                <a:solidFill>
                  <a:srgbClr val="000000"/>
                </a:solidFill>
                <a:latin typeface="Cooper Bold YU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Cooper Bold YU"/>
              </a:rPr>
              <a:t> 1985)</a:t>
            </a:r>
            <a:endParaRPr b="0" lang="en-US" sz="1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oper Bold YU"/>
              </a:rPr>
              <a:t>- хемиплегија (ХХЕ синдром)</a:t>
            </a:r>
            <a:endParaRPr b="0" lang="en-US" sz="1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oper Bold YU"/>
              </a:rPr>
              <a:t>- диплегија</a:t>
            </a:r>
            <a:endParaRPr b="0" lang="en-US" sz="1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oper Bold YU"/>
              </a:rPr>
              <a:t>- хореоатетоза</a:t>
            </a:r>
            <a:endParaRPr b="0" lang="en-US" sz="1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oper Bold YU"/>
              </a:rPr>
              <a:t>- декортикациона ригидност</a:t>
            </a:r>
            <a:endParaRPr b="0" lang="en-US" sz="1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692160" y="304200"/>
            <a:ext cx="205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УЗРАСТ 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533520" y="144684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Фебрилне конвулзије се најчешће јављају од</a:t>
            </a:r>
            <a:r>
              <a:rPr b="1" lang="en-US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6. месеца до 5. године живота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3"/>
          <p:cNvSpPr/>
          <p:nvPr/>
        </p:nvSpPr>
        <p:spPr>
          <a:xfrm>
            <a:off x="2978280" y="380520"/>
            <a:ext cx="32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ИНЦИДЕНЦ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1556640" y="2217600"/>
            <a:ext cx="6081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2-5% деце млађе од 5 година има ФК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Учесталост ФК је најчешћа у: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жуте расе (7%)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затим црне (4.2%),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а најређа у беле (3.5%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509560" y="380520"/>
            <a:ext cx="46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НАСЛЕЂИВАЊЕ ФК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80880" y="1185840"/>
            <a:ext cx="8991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*учесталост ФК међу члановима уже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породице пропозитуса износи 10-31%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*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oper Bold YU"/>
              </a:rPr>
              <a:t>полигенски мултифакторијални начин наслеђивања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: при чему један или више гена у интеракцији са факторима спољне средине условљавају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настанак ФК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075760" y="456480"/>
            <a:ext cx="52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УЗРОК ПОВИШЕНЕ </a:t>
            </a: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TT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727200" y="1672560"/>
            <a:ext cx="6779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Повишена телесна температура у току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које настају ФК је најчешће изазвана: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- инфекцијама горњих респир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путев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(у 80% се ради о вирусној етиологији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* ређе је температура настала услед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- пнеумоније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- гастроентеритис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- ИТУ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781920" y="1749960"/>
            <a:ext cx="742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*телесна температура која претходи нападу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је обичн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oper Bold YU"/>
              </a:rPr>
              <a:t>изнад 38,50Ц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*најнижа тт која при којој се јављају ФК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ј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oper Bold YU"/>
              </a:rPr>
              <a:t>37,80Ц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(око 11% деце - Деган 1967.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600920" y="304200"/>
            <a:ext cx="672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TT</a:t>
            </a:r>
            <a:r>
              <a:rPr b="1" lang="sr-CS" sz="3600" spc="-1" strike="noStrike">
                <a:solidFill>
                  <a:srgbClr val="000000"/>
                </a:solidFill>
                <a:latin typeface="Cooper Bold YU"/>
              </a:rPr>
              <a:t> КОЈА ПРЕТХОДИ НАПАДУ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687840" y="380520"/>
            <a:ext cx="19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УЗРАСТ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292400" y="1826640"/>
            <a:ext cx="726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*највећу склоност према ФК имају деца од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6. месеца до 3. године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*први напад се најчешће јавља током 2. год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2659680" y="227880"/>
            <a:ext cx="43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ТИПОВИ НАПАД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0880" y="1279080"/>
            <a:ext cx="8763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генерализовани клонични или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клонично – тонични </a:t>
            </a: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око 80%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парцијални или унилатерални напади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3-29%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атонични 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4-9%</a:t>
            </a: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6T17:05:33Z</dcterms:created>
  <dc:creator>Boban</dc:creator>
  <dc:description/>
  <dc:language>en-US</dc:language>
  <cp:lastModifiedBy>Win7</cp:lastModifiedBy>
  <dcterms:modified xsi:type="dcterms:W3CDTF">2014-08-27T07:08:38Z</dcterms:modified>
  <cp:revision>68</cp:revision>
  <dc:subject/>
  <dc:title>No Slide Title</dc:title>
</cp:coreProperties>
</file>