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46E6-091A-4A53-98D2-FCD05230F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0089-86C6-4679-BB32-8CEBC1A1F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6378-B402-45E7-890F-D074F9CAB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A4BE-E3D0-4F60-9921-0791AA77B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9ADD-70C0-4F66-9EC1-21C6011AB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8D95-E1C9-48D9-AD65-3C34A0015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CF04-CAB6-440A-BED9-732A6B7CC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C262-5959-4007-844B-0A20EFB82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F051-248E-4F24-B36A-1ADA736DE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DF76-468D-4204-A0A5-03A3028BA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9072-F2DE-43C3-A88A-20E601FA5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185B-8650-416E-BB3B-F29DF8DEC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191F-E279-4102-9D27-E0A1B2110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FE8C-5F42-447F-8BE9-8B6B0E48C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7178-FA0C-4D72-B903-B17891033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6F7E-4160-478D-B5A6-CEB685F1F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295B-EA91-47D3-A43D-E362AC029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9403-29BA-4399-8A2D-A6877D252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B903-4078-410A-95E9-849E7799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72CD-F69A-4DA9-B743-B5F159BB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C790-0379-4C32-BEC6-66126FC2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ED0F-DE91-421E-826C-4BD6CBF1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8145-151C-44E3-954B-7573898F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9EDD-B4FD-44B2-8243-45542083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382-A783-4661-B5C8-F278C9F9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9277-1782-4965-AA4C-E0F4DDCF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8E8E-3792-467D-B99A-303FA6D5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2377-2221-4A85-BAAF-1936414C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E79B-DAB6-44D5-AEC1-A66E0930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0CD6-A5B1-40CB-9E16-30D36CCB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92A7-D717-481A-9E8E-16333D657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Group 7" descr=""/>
          <p:cNvPicPr/>
          <p:nvPr/>
        </p:nvPicPr>
        <p:blipFill>
          <a:blip r:embed="rId1"/>
          <a:stretch/>
        </p:blipFill>
        <p:spPr>
          <a:xfrm>
            <a:off x="1427040" y="2189160"/>
            <a:ext cx="6570720" cy="225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984320" y="-720"/>
            <a:ext cx="56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Клинички центар Крагујевац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409200" y="5150160"/>
            <a:ext cx="51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Проф. др Слободан Обрадовић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2340000" y="27396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КЛАСИФИКАЦИЈ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00160" y="1372680"/>
            <a:ext cx="8523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КЛАСИФИКАЦИЈА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ЕПИЛЕПСИЈА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И ЕПИ СИНДРОМА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1989. ГОДИНЕ (ИЛАЕ):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ФОКАЛНА , ИЛИ ПАРЦИЈАЛНА ЕП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ГЕНЕРАЛИЗОВАНЕ ЕП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НЕДЕТЕРМИНИСАНЕ ЕПИЛЕПСИЈЕ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СПЕЦИЈАЛНИ СИНДРОМ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2340000" y="27396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КЛАСИФИКАЦИЈ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8640" y="1161720"/>
            <a:ext cx="9693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ИДИОПАТСКЕ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непознат узрок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по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ч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етак зависан од узраст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СИМПТОМАТСКЕ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постоји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структурна лезија мозг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знаци неуролошког оштећ. често присутн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КРИПТОГЕНЕ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вероватно симптоматск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за сада је узрок непознат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2340000" y="27396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КЛАСИФИКАЦИЈ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-632880" y="1062720"/>
            <a:ext cx="96354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1.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ФОКАЛНА ИЛИ ПАРЦИЈАЛНА  ЕПИ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1.1.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ИДИОПАТСКЕ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епи детињства са окципиталним парокс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. …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1.2.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СИМПТОМАТСКЕ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анатомски локализоване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(фронтална, темпорална...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1.3.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КРИПТОГЕНЕ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дефинисане типом напада,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етиологијом, клиничком сликом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2340000" y="27396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КЛАСИФИКАЦИЈ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89440" y="1283400"/>
            <a:ext cx="8090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2.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ГЕНЕРАЛИЗОВАНЕ  ЕПИ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Свест је увек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пореме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ћена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2.1.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ИДИОПАТСКЕ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апсанс епилепсија детињств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гранд мал напади при бу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ђ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ењу...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анатомски локализоване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(фронтална, темпорална...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2.2.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КРИПТОГЕНЕ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ИЛИ СИМПТОМАТСКЕ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Wестов синдром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Леноx-Гастаут...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2.3. СИМПТОМАТСКЕ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рана миоклона енцефалопатија...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2340000" y="27396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КЛАСИФИКАЦИЈ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-607680" y="1188000"/>
            <a:ext cx="983412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3. 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НЕДЕТЕРМИНИСАНЕ  ЕПИ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3.1.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СА ГЕНЕРАЛ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.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И ФОКАЛНИМ КРИЗАМА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неонаталне кризе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тешка инфантилна миоклонична епи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стечена епи афазија (Ландау-Клеффнер с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)…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3.2.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БЕЗ НЕСУМЊИВО ГЕНЕР. ИЛИ ФОК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.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КРИЗ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гранд мал напади у сну …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2340000" y="27396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КЛАСИФИКАЦИЈ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-369720" y="1214280"/>
            <a:ext cx="9177120" cy="54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4.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СПЕЦИЈАЛНИ СИНДРОМИ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4.1.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СИТУАЦИОНИ НАПАДИ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фебрилне конвулзије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изоловане кризе или епи статус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кризе услед акутног метаболи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ч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ког  или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т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окси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ч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ног дога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ђ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ај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*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алкохол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*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лекови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*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дроге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*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еклампсија...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oper Bold YU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1826640" y="273960"/>
            <a:ext cx="54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ooper Bold YU"/>
              </a:rPr>
              <a:t>СИМПТОМАТОЛОГИЈ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80" name="Rectangle 160"/>
          <p:cNvSpPr/>
          <p:nvPr/>
        </p:nvSpPr>
        <p:spPr>
          <a:xfrm>
            <a:off x="177480" y="991800"/>
            <a:ext cx="9055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buClr>
                <a:srgbClr val="cc0000"/>
              </a:buClr>
              <a:buFont typeface="Cooper Bold YU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ПОРЕМЕ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Ћ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АЈ СВЕСТ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buClr>
                <a:srgbClr val="cc0000"/>
              </a:buClr>
              <a:buFont typeface="Cooper Bold YU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МОТОРНИ ЗНАЦ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buClr>
                <a:srgbClr val="cc0000"/>
              </a:buClr>
              <a:buFont typeface="Cooper Bold YU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АУТОНОМНИ СИМПТОМ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buClr>
                <a:srgbClr val="cc0000"/>
              </a:buClr>
              <a:buFont typeface="Cooper Bold YU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СОМАТОСЕНЗОРНИ СИМПТОМ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buClr>
                <a:srgbClr val="cc0000"/>
              </a:buClr>
              <a:buFont typeface="Cooper Bold YU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СПЕЦИЈАЛНИ СЕНЗОРНИ СИМПТОМ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buClr>
                <a:srgbClr val="cc0000"/>
              </a:buClr>
              <a:buFont typeface="Cooper Bold YU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ПОРЕМЕ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Ћ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АЈИ ВИ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Ш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ИХ МО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Ж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ДАНИХ ФУНКЦИЈ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buClr>
                <a:srgbClr val="cc0000"/>
              </a:buClr>
              <a:buFont typeface="Cooper Bold YU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АУТОМАТИЗМ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buClr>
                <a:srgbClr val="cc0000"/>
              </a:buClr>
              <a:buFont typeface="Cooper Bold YU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ПРОДРОМНИ СИМПТОМ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buClr>
                <a:srgbClr val="cc0000"/>
              </a:buClr>
              <a:buFont typeface="Cooper Bold YU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АУР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1577520" y="380520"/>
            <a:ext cx="606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ooper Bold YU"/>
              </a:rPr>
              <a:t>ДИЈАГНОЗА ЕПИЛЕПСИЈЕ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82" name="Rectangle 78"/>
          <p:cNvSpPr/>
          <p:nvPr/>
        </p:nvSpPr>
        <p:spPr>
          <a:xfrm>
            <a:off x="395280" y="984960"/>
            <a:ext cx="889776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ДИЈАГНОЗА НАПАДА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АНАМНЕЗ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ЛАБОРАТОРИЈСКА ИСПИТИВАЊА   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ГЛИКЕМИЈ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ЕЛЕКТРОЛИТИ СЕРУМА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НАЛАЗ ЛИКВОР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ПАТОФИЗИОЛО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Ш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КА ДИЈАГНОЗА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СТАНДАРДНИ ЕЕГ - УЗ ВИДЕО СНИМАК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СЕРИЈСКИ ЕЕГ - (3-4 ДАНА УЗАСТОПНО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ЕЕГ У СНУ - СПОНТАНОМ ИЛИ ПРИ ДЕПРИВ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.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ХОЛТЕР ЕЕГ – 24х НА КАСЕТИ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ЕТИОЛО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Ш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КА ДИЈАГНОЗА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НЕУРОРАДИОЛОШКЕ МЕТОДЕ: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Рö ГЛАВЕ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,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УЗ ЦНС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,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ЦТ, МР, ПЕТ, СПЕ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К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Т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2874240" y="-36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ДЕФИНИЦИЈ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457200" y="1736280"/>
            <a:ext cx="845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ЕПИЛЕПСИЈА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ЈЕ ХРОНИ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Ч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И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МО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Ж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ДАНИ ПОРЕМЕ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Ћ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АЈ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РАЗЛИ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Ч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ИТЕ ЕТИОЛОГИЈЕ,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КОЈИ СЕ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К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АРАКТЕРИ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Ш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: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ПОНОВЉЕНИМ  НАПАДИМА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УСЛЕД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ПРЕКОМЕРНОГ ПРА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Ж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ЊЕЊ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МО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Ж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ДАНИХ НЕУРОН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ЕПИЛЕСИЈА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ЈЕ ХРОНИ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Ч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А ПРЕДИСПОЗИЦИЈ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ПРЕМА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ПОНОВЉЕНИМ  НАПАДИМА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8"/>
          <p:cNvSpPr/>
          <p:nvPr/>
        </p:nvSpPr>
        <p:spPr>
          <a:xfrm>
            <a:off x="457200" y="2424240"/>
            <a:ext cx="8305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ЕПИ НАПАДЕ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Ч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ИНЕ КЛИНИ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Ч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КИ ДОГА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Ђ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АЈИ,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А НЕ САМО ЕЕГ ПРА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Ж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ЊЕЊА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ПОСЛЕ ПРВОГ НАПАДА НЕ МОЖЕ СЕ СА СИГУРНОШЋУ ПОСТАВИТИ  ДИЈАГНОЗА ЕПИЛЕПСИЈЕ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74240" y="-36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ДЕФИНИЦИЈ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3"/>
          <p:cNvSpPr/>
          <p:nvPr/>
        </p:nvSpPr>
        <p:spPr>
          <a:xfrm>
            <a:off x="1505520" y="304200"/>
            <a:ext cx="631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УЧЕСТАЛОСТ ЕПИЛЕПСИЈЕ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762120" y="219276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ИНЦИДЕНЦА –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БРОЈ НОВИХ СЛУЧАЈЕВА ЕПИ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ЈЕ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30-50 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НА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100000 ЉУДИ ГОДИ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Ш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ЊЕ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ПРЕВАЛЕНЦА </a:t>
            </a: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БРОЈ УКУПНО ОБОЛЕЛЕ ДЕЦЕ ЈЕ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 0.</a:t>
            </a:r>
            <a:r>
              <a:rPr b="1" lang="ru-RU" sz="2800" spc="-1" strike="noStrike">
                <a:solidFill>
                  <a:srgbClr val="000000"/>
                </a:solidFill>
                <a:latin typeface="Cooper Bold YU"/>
              </a:rPr>
              <a:t>4-0.8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%</a:t>
            </a:r>
            <a:r>
              <a:rPr b="0" lang="sr-Latn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57200" y="2361600"/>
            <a:ext cx="899172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ЕЛЕКТРОФИЗИОЛО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Ш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КИ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СЕ КОД НАПАДА РЕГИСТРУЈЕ ЕКСЦЕСИВНО, ХИПЕРСИНХРОНО ПРА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Ж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ЊЕЊЕ ВЕ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Ћ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Е ПОПУЛАЦИЈЕ 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КОРТИКАЛНИХ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НЕУРОН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2344320" y="273960"/>
            <a:ext cx="48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ПОЈАМ </a:t>
            </a:r>
            <a:r>
              <a:rPr b="1" lang="sr-Latn-CS" sz="3600" spc="-1" strike="noStrike">
                <a:solidFill>
                  <a:srgbClr val="000000"/>
                </a:solidFill>
                <a:latin typeface="Cooper Bold YU"/>
              </a:rPr>
              <a:t>ЕПИЛЕПСИЈЕ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558080" y="380520"/>
            <a:ext cx="57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ooper Bold YU"/>
              </a:rPr>
              <a:t>БАЗ</a:t>
            </a: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ИЧ</a:t>
            </a:r>
            <a:r>
              <a:rPr b="1" lang="sr-Latn-CS" sz="3600" spc="-1" strike="noStrike">
                <a:solidFill>
                  <a:srgbClr val="000000"/>
                </a:solidFill>
                <a:latin typeface="Cooper Bold YU"/>
              </a:rPr>
              <a:t>НИ МЕХАНИЗМИ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1367640"/>
            <a:ext cx="9280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ФУНКЦИОНАЛНИ ПОРЕМЕ</a:t>
            </a:r>
            <a:r>
              <a:rPr b="1" lang="ru-RU" sz="2400" spc="-1" strike="noStrike">
                <a:solidFill>
                  <a:srgbClr val="000000"/>
                </a:solidFill>
                <a:latin typeface="Cooper Bold YU"/>
              </a:rPr>
              <a:t>Ћ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АЈ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ЕКСЦИТАБИЛНОСТИ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НЕУРОНА УСЛЕД ИЗМЕНА</a:t>
            </a: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4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ЈОНСКИХ КАНАЛА ИЛИ ТРАНСПОРТЕРА ЈОН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4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СВОЈСТАВА СИНАПСИ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(КОЛИ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Ч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ИНА ИЛИ ДЕЈСТВО ТРАНСМИТЕРА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4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ПРОМЕНЕ АНАТОМСКИХ ИЛИ ФУНКЦИОНАЛНИХ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ВЕЗА МЕ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Ђ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У НЕУРОНИМА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58080" y="380520"/>
            <a:ext cx="57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ooper Bold YU"/>
              </a:rPr>
              <a:t>БАЗ</a:t>
            </a: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ИЧ</a:t>
            </a:r>
            <a:r>
              <a:rPr b="1" lang="sr-Latn-CS" sz="3600" spc="-1" strike="noStrike">
                <a:solidFill>
                  <a:srgbClr val="000000"/>
                </a:solidFill>
                <a:latin typeface="Cooper Bold YU"/>
              </a:rPr>
              <a:t>НИ МЕХАНИЗМИ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1303560"/>
            <a:ext cx="928044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65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ФОКАЛНИ НАПАДИ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НАСТАЈУ У КОРТИКАЛНОМ 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Ж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АРИ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Ш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ТУ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65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ПРИМАРНИ ГЕНЕРАЛИЗОВАНИ НАПАДИ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НАСТАЈУ У ЦЕНТРЕНЦЕФАЛНОМ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ИНТЕРГРАЦИОНОМ СИСТЕМУ 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(ПЕНФИЛД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 W.Г. 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19</a:t>
            </a:r>
            <a:r>
              <a:rPr b="1" lang="en-US" sz="2400" spc="-1" strike="noStrike">
                <a:solidFill>
                  <a:srgbClr val="000000"/>
                </a:solidFill>
                <a:latin typeface="Cooper Bold YU"/>
              </a:rPr>
              <a:t>50</a:t>
            </a:r>
            <a:r>
              <a:rPr b="1" lang="sr-Latn-CS" sz="2400" spc="-1" strike="noStrike">
                <a:solidFill>
                  <a:srgbClr val="000000"/>
                </a:solidFill>
                <a:latin typeface="Cooper Bold YU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1558080" y="380520"/>
            <a:ext cx="57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ooper Bold YU"/>
              </a:rPr>
              <a:t>БАЗ</a:t>
            </a:r>
            <a:r>
              <a:rPr b="1" lang="ru-RU" sz="3600" spc="-1" strike="noStrike">
                <a:solidFill>
                  <a:srgbClr val="000000"/>
                </a:solidFill>
                <a:latin typeface="Cooper Bold YU"/>
              </a:rPr>
              <a:t>ИЧ</a:t>
            </a:r>
            <a:r>
              <a:rPr b="1" lang="sr-Latn-CS" sz="3600" spc="-1" strike="noStrike">
                <a:solidFill>
                  <a:srgbClr val="000000"/>
                </a:solidFill>
                <a:latin typeface="Cooper Bold YU"/>
              </a:rPr>
              <a:t>НИ МЕХАНИЗМИ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57200" y="1676880"/>
            <a:ext cx="9280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ОСОБЕНОСТИ ЕПИЛЕПТИ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Ч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НОГ ФОКУСА: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МОРФОЛО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Ш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КИ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СМАЊЕН БРОЈ НЕУРОНА,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С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МАЊЕНА ЛОКАЛНА ЦИРКУЛАЦИЈ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ПОВЕ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Ћ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АН БРОЈ 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Ћ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ЕЛИЈА ГЛИЈЕ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АБНОРМАЛНЕ ДЕНДРИТСКЕ СТРУКТУРЕ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2340000" y="27396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old YU"/>
              </a:rPr>
              <a:t>КЛАСИФИКАЦИЈА</a:t>
            </a:r>
            <a:endParaRPr b="0" lang="en-US" sz="3600" spc="-1" strike="noStrike">
              <a:solidFill>
                <a:srgbClr val="000000"/>
              </a:solidFill>
              <a:latin typeface="Cooper Bold YU"/>
            </a:endParaRPr>
          </a:p>
        </p:txBody>
      </p:sp>
      <p:sp>
        <p:nvSpPr>
          <p:cNvPr id="66" name="Rectangle 133"/>
          <p:cNvSpPr/>
          <p:nvPr/>
        </p:nvSpPr>
        <p:spPr>
          <a:xfrm>
            <a:off x="1237320" y="1220760"/>
            <a:ext cx="7405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КРИТЕРИЈУМИ ЗА КЛАСИФИКАЦИЈУ: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4" marL="18288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КЛИНИ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Ч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КА СЛИКА НАПАД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ЕЕГ ОСОБЕНОСТ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УЗРАСТ ПО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Ч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ЕТКА ЕП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ЕТИОЛОГИЈА ЕП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ГЕНЕТИК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ПАТОФИЗИОЛОГИЈ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ПРЕЦИПИТИРАЈУ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Ћ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И ФАКТОРИ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ТЕ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Ж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ИНА НАПАДА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Cooper Bold YU"/>
              </a:rPr>
              <a:t>Ч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ЕСТАЛОСТ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ОДГОВОР НА ТЕРАПИЈУ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oper Bold YU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oper Bold YU"/>
              </a:rPr>
              <a:t>ПРОГНОЗА </a:t>
            </a:r>
            <a:endParaRPr b="0" lang="en-US" sz="2800" spc="-1" strike="noStrike">
              <a:solidFill>
                <a:srgbClr val="000000"/>
              </a:solidFill>
              <a:latin typeface="Cooper Bold Y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6T17:05:33Z</dcterms:created>
  <dc:creator>Boban</dc:creator>
  <dc:description/>
  <dc:language>en-US</dc:language>
  <cp:lastModifiedBy>Win7</cp:lastModifiedBy>
  <dcterms:modified xsi:type="dcterms:W3CDTF">2014-09-18T08:36:32Z</dcterms:modified>
  <cp:revision>72</cp:revision>
  <dc:subject/>
  <dc:title>No Slide Title</dc:title>
</cp:coreProperties>
</file>